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08813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092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968280" y="-360"/>
            <a:ext cx="303876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98080" y="692280"/>
            <a:ext cx="4622760" cy="346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5560" cy="4154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877068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968280" y="8770680"/>
            <a:ext cx="303876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105D32-CDF5-4245-9E1F-EB6FA2529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968640" y="8771040"/>
            <a:ext cx="30387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A3AB52-844E-41A6-BC7A-7F11FACA2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98440" y="69228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556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968640" y="8771040"/>
            <a:ext cx="30387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E014185-328A-4CD1-BBA8-302C00E13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01680" y="69228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1280" y="4389480"/>
            <a:ext cx="560556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968640" y="8771040"/>
            <a:ext cx="30387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AD3B9E-6A9C-4902-B999-8066C5779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216080" y="69048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39600" y="4387680"/>
            <a:ext cx="5128920" cy="41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968640" y="8771040"/>
            <a:ext cx="30387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9DC6DC-7B8B-48B3-9D67-9B91DD427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3963960" y="8772480"/>
            <a:ext cx="3044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575344C-B1E4-4F34-B6AF-EDA11E647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219320" y="6904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39600" y="4389120"/>
            <a:ext cx="512892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68640" y="8771040"/>
            <a:ext cx="30387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0A8C58-A919-4177-8EA2-179E3DCFE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3963960" y="8772480"/>
            <a:ext cx="3044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8F0C68A2-CC69-4784-A38A-4119DB2AB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219320" y="6904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39600" y="4389120"/>
            <a:ext cx="512892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968640" y="8771040"/>
            <a:ext cx="30387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FE9A24-1089-42A4-A3BC-1B10D6839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3963960" y="8772480"/>
            <a:ext cx="3044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37AAF312-D19F-4169-B11C-70308F0E3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219320" y="6904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39600" y="4389120"/>
            <a:ext cx="512892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968640" y="8771040"/>
            <a:ext cx="30387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0043C81-BBAD-4BD1-9768-F4A6BBB1D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01680" y="69228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1280" y="4389480"/>
            <a:ext cx="560556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968640" y="8771040"/>
            <a:ext cx="30387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0C397EE-480F-46B0-9670-36452765B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3963960" y="8772480"/>
            <a:ext cx="3044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27B8CB12-A2E4-4471-925D-650F85FCB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219320" y="6904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39600" y="4389120"/>
            <a:ext cx="512892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3680" y="1012320"/>
            <a:ext cx="8229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680" y="3615840"/>
            <a:ext cx="8229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3680" y="1012320"/>
            <a:ext cx="401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720" y="1012320"/>
            <a:ext cx="401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3680" y="3615840"/>
            <a:ext cx="401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720" y="3615840"/>
            <a:ext cx="401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3680" y="1012320"/>
            <a:ext cx="2649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6120" y="1012320"/>
            <a:ext cx="2649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8560" y="1012320"/>
            <a:ext cx="2649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3680" y="3615840"/>
            <a:ext cx="2649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6120" y="3615840"/>
            <a:ext cx="2649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8560" y="3615840"/>
            <a:ext cx="2649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3680" y="1012320"/>
            <a:ext cx="82296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3680" y="1012320"/>
            <a:ext cx="8229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3680" y="1012320"/>
            <a:ext cx="40158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0720" y="1012320"/>
            <a:ext cx="40158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742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3680" y="1012320"/>
            <a:ext cx="401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720" y="1012320"/>
            <a:ext cx="40158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3680" y="3615840"/>
            <a:ext cx="401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3680" y="1012320"/>
            <a:ext cx="82296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3680" y="1012320"/>
            <a:ext cx="40158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720" y="1012320"/>
            <a:ext cx="401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0720" y="3615840"/>
            <a:ext cx="401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3680" y="1012320"/>
            <a:ext cx="401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720" y="1012320"/>
            <a:ext cx="401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680" y="3615840"/>
            <a:ext cx="8229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3680" y="1012320"/>
            <a:ext cx="8229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680" y="3615840"/>
            <a:ext cx="8229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3680" y="1012320"/>
            <a:ext cx="401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720" y="1012320"/>
            <a:ext cx="401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3680" y="3615840"/>
            <a:ext cx="401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0720" y="3615840"/>
            <a:ext cx="401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3680" y="1012320"/>
            <a:ext cx="2649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46120" y="1012320"/>
            <a:ext cx="2649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8560" y="1012320"/>
            <a:ext cx="2649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680" y="3615840"/>
            <a:ext cx="2649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46120" y="3615840"/>
            <a:ext cx="2649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8560" y="3615840"/>
            <a:ext cx="2649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3680" y="1012320"/>
            <a:ext cx="8229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3680" y="1012320"/>
            <a:ext cx="40158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720" y="1012320"/>
            <a:ext cx="40158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742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3680" y="1012320"/>
            <a:ext cx="401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720" y="1012320"/>
            <a:ext cx="40158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680" y="3615840"/>
            <a:ext cx="401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3680" y="1012320"/>
            <a:ext cx="40158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720" y="1012320"/>
            <a:ext cx="401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720" y="3615840"/>
            <a:ext cx="401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3680" y="1012320"/>
            <a:ext cx="401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720" y="1012320"/>
            <a:ext cx="401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3680" y="3615840"/>
            <a:ext cx="8229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680" y="1012320"/>
            <a:ext cx="8229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>
            <a:off x="449280" y="879480"/>
            <a:ext cx="82454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449280" y="6134040"/>
            <a:ext cx="82454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ooter Placeholder 2"/>
          <p:cNvSpPr/>
          <p:nvPr/>
        </p:nvSpPr>
        <p:spPr>
          <a:xfrm>
            <a:off x="3130560" y="62388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© Macroeconomic Advi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lide Number Placeholder 3"/>
          <p:cNvSpPr/>
          <p:nvPr/>
        </p:nvSpPr>
        <p:spPr>
          <a:xfrm>
            <a:off x="6559560" y="6238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690C-E2CD-4600-BABC-A6A381FDE4B0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Line 7"/>
          <p:cNvSpPr/>
          <p:nvPr/>
        </p:nvSpPr>
        <p:spPr>
          <a:xfrm>
            <a:off x="449280" y="879480"/>
            <a:ext cx="82454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449280" y="6134040"/>
            <a:ext cx="82454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76"/>
              </a:spcBef>
              <a:buClr>
                <a:srgbClr val="0000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141200"/>
            <a:ext cx="823608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Whatever It Tak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Laurence H. Mey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January 8, 2009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resentation to the National Economics Club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444600" y="179280"/>
            <a:ext cx="541656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15960" y="3409920"/>
            <a:ext cx="3814920" cy="2048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74680" y="2027160"/>
            <a:ext cx="4403520" cy="334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506840" y="2019240"/>
            <a:ext cx="4415040" cy="3355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572160" y="3657600"/>
            <a:ext cx="577800" cy="863640"/>
          </a:xfrm>
          <a:custGeom>
            <a:avLst/>
            <a:gdLst/>
            <a:ahLst/>
            <a:rect l="l" t="t" r="r" b="b"/>
            <a:pathLst>
              <a:path w="364" h="544">
                <a:moveTo>
                  <a:pt x="0" y="66"/>
                </a:moveTo>
                <a:lnTo>
                  <a:pt x="176" y="544"/>
                </a:lnTo>
                <a:lnTo>
                  <a:pt x="364" y="0"/>
                </a:lnTo>
                <a:lnTo>
                  <a:pt x="0" y="6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eflation: A Serious Thre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544680" y="1598760"/>
            <a:ext cx="39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lation Fore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4"/>
          <p:cNvSpPr/>
          <p:nvPr/>
        </p:nvSpPr>
        <p:spPr>
          <a:xfrm>
            <a:off x="4768920" y="5362560"/>
            <a:ext cx="386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>
              <a:spcBef>
                <a:spcPts val="437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fidence band based on historical errors of consensus forecast as computed by Reifschneider and Tulip (2007) and reported in FOMC minute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4800600" y="1585800"/>
            <a:ext cx="380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lation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2355840" y="3567240"/>
            <a:ext cx="123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Core P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768240" y="2319480"/>
            <a:ext cx="128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Headline P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4930920" y="3171960"/>
            <a:ext cx="14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Headline P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573960" y="3778200"/>
            <a:ext cx="5443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78800" y="3780000"/>
            <a:ext cx="0" cy="28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5118120" y="4121280"/>
            <a:ext cx="171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5% confidence b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2379600" y="2176560"/>
            <a:ext cx="0" cy="287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58920" y="2143080"/>
            <a:ext cx="50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   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737400" y="3718080"/>
            <a:ext cx="247680" cy="43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3043080" y="3191040"/>
            <a:ext cx="14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0099ff"/>
                </a:solidFill>
                <a:latin typeface="Arial"/>
              </a:rPr>
              <a:t>FOMC comfort 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457200" y="1998720"/>
            <a:ext cx="73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56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4697280" y="1994040"/>
            <a:ext cx="730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56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4"/>
          <p:cNvSpPr/>
          <p:nvPr/>
        </p:nvSpPr>
        <p:spPr>
          <a:xfrm>
            <a:off x="606600" y="5905440"/>
            <a:ext cx="3867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>
              <a:spcBef>
                <a:spcPts val="437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croeconomic Advisers forecast prepared December 24, 2008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17440" y="2023920"/>
            <a:ext cx="4416480" cy="33544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457880" y="1935000"/>
            <a:ext cx="4533840" cy="34419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8"/>
          <p:cNvSpPr/>
          <p:nvPr/>
        </p:nvSpPr>
        <p:spPr>
          <a:xfrm>
            <a:off x="4654440" y="1579680"/>
            <a:ext cx="4251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orecast with Deflationary Conce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4232160" y="2003400"/>
            <a:ext cx="15354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Perc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28520" y="2000160"/>
            <a:ext cx="11905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Perc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209520" y="1569960"/>
            <a:ext cx="4251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aseline Fore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57200" y="24624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eflation: A Serious Th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 rot="10800000">
            <a:off x="2365200" y="3749040"/>
            <a:ext cx="133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Core PCE Inf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2127240" y="2154240"/>
            <a:ext cx="50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   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65200" y="2184480"/>
            <a:ext cx="0" cy="285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6434280" y="2149560"/>
            <a:ext cx="50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   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72240" y="2179800"/>
            <a:ext cx="0" cy="28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4"/>
          <p:cNvSpPr/>
          <p:nvPr/>
        </p:nvSpPr>
        <p:spPr>
          <a:xfrm>
            <a:off x="606600" y="5905440"/>
            <a:ext cx="3867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>
              <a:spcBef>
                <a:spcPts val="437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croeconomic Advisers forecast prepared November 5, 2008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 rot="10800000">
            <a:off x="6964200" y="2772720"/>
            <a:ext cx="133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Core PCE Inf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 rot="10800000">
            <a:off x="2910960" y="2874240"/>
            <a:ext cx="157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Inflation Expect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 rot="10800000">
            <a:off x="6647040" y="4209480"/>
            <a:ext cx="157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Inflation Expect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54160" y="2027160"/>
            <a:ext cx="4405320" cy="33451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535640" y="2027160"/>
            <a:ext cx="4397400" cy="33451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760" y="2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redit Conditions: The Dominant Forecast Facto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243000" y="1515960"/>
            <a:ext cx="434016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75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porate Yield Spread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oody’s Baa less Treas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369720" y="199080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56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sis poi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189320" y="1998720"/>
            <a:ext cx="2146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56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cent of bank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1"/>
          <p:cNvSpPr/>
          <p:nvPr/>
        </p:nvSpPr>
        <p:spPr>
          <a:xfrm>
            <a:off x="4376880" y="1517760"/>
            <a:ext cx="45892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75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nks’ Willingness to Lend*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nior Loan Officer Surv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73680" y="5392800"/>
            <a:ext cx="342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Share of institutions more (positive) or less (negative) willing to make consumer installment loan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638600" y="2036880"/>
            <a:ext cx="4381560" cy="33303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16080" y="2027160"/>
            <a:ext cx="4403520" cy="33451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redit Conditions: Gradual Recover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86"/>
          <p:cNvSpPr/>
          <p:nvPr/>
        </p:nvSpPr>
        <p:spPr>
          <a:xfrm>
            <a:off x="352440" y="1989000"/>
            <a:ext cx="1355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56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centage point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3084480" y="3413160"/>
            <a:ext cx="78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Act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312840" y="3483000"/>
            <a:ext cx="171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Fit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14"/>
          <p:cNvSpPr/>
          <p:nvPr/>
        </p:nvSpPr>
        <p:spPr>
          <a:xfrm>
            <a:off x="468360" y="1770120"/>
            <a:ext cx="4110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1920" algn="ctr">
              <a:spcBef>
                <a:spcPts val="10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a Corporate Yield Sp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14"/>
          <p:cNvSpPr/>
          <p:nvPr/>
        </p:nvSpPr>
        <p:spPr>
          <a:xfrm>
            <a:off x="4621320" y="1770120"/>
            <a:ext cx="410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1920" algn="ctr">
              <a:spcBef>
                <a:spcPts val="10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Mortgage Sp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6"/>
          <p:cNvSpPr/>
          <p:nvPr/>
        </p:nvSpPr>
        <p:spPr>
          <a:xfrm>
            <a:off x="4776840" y="1992240"/>
            <a:ext cx="1355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>
              <a:spcBef>
                <a:spcPts val="56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centage point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5121360" y="2529000"/>
            <a:ext cx="78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Act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7615080" y="4197240"/>
            <a:ext cx="79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Fit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33960" y="2179800"/>
            <a:ext cx="0" cy="28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4002120" y="2155680"/>
            <a:ext cx="50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   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59920" y="2179800"/>
            <a:ext cx="0" cy="28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8129520" y="2155680"/>
            <a:ext cx="50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   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760" y="22968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ed Liquidity Policies: A Summar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20840" y="1247760"/>
            <a:ext cx="8501040" cy="459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99880" y="2027160"/>
            <a:ext cx="4394520" cy="3338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592520" y="2027160"/>
            <a:ext cx="4394160" cy="33418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mprovement in Interbank Funding Marke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4543560" y="1515960"/>
            <a:ext cx="413676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75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bor Credit Spread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elative to OIS R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4697280" y="200196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56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sis poi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7267680" y="4121280"/>
            <a:ext cx="76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3-month 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6861240" y="4781520"/>
            <a:ext cx="15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1-month 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455760" y="200196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>
              <a:spcBef>
                <a:spcPts val="56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1974960" y="4608360"/>
            <a:ext cx="15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Effective funds 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348000" y="4428720"/>
            <a:ext cx="257040" cy="257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2184480" y="3171960"/>
            <a:ext cx="15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008000"/>
                </a:solidFill>
                <a:latin typeface="Arial"/>
              </a:rPr>
              <a:t>3-month Libor 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417600" y="1527120"/>
            <a:ext cx="413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100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deral Funds Rate and Lib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585720" y="5334120"/>
            <a:ext cx="39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*Effective federal funds rate is a ten-day moving average.  The range shown shows the intraday variation, measured as +/- one standard deviatio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New Policy Regim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03480" y="1035000"/>
            <a:ext cx="735624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roader use of Fed’s balance sheet to achieve objectiv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495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495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tention of these policies is to influence 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financial condi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buClr>
                <a:srgbClr val="3333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Monitor credit conditions to gauge succe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buClr>
                <a:srgbClr val="3333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ut no explicit targ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49536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495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Quantitative easing of a different s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buClr>
                <a:srgbClr val="3333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olicies will inject large amounts of reserv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buClr>
                <a:srgbClr val="3333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ut goal is not the level of reserv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495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495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 single measure to summarize Fed 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buClr>
                <a:srgbClr val="3333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Watch the H.4.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buClr>
                <a:srgbClr val="3333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Makes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communications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challenging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0">
              <a:lnSpc>
                <a:spcPct val="11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495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Governance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iss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buClr>
                <a:srgbClr val="3333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All decisions made by FOMC</a:t>
            </a:r>
            <a:endParaRPr b="0" lang="en-US" sz="15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buClr>
                <a:srgbClr val="3333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Even though 13(3) programs under authority of Board</a:t>
            </a:r>
            <a:endParaRPr b="0" lang="en-US" sz="1500" spc="-1" strike="noStrike">
              <a:solidFill>
                <a:srgbClr val="000099"/>
              </a:solidFill>
              <a:latin typeface="Arial"/>
            </a:endParaRPr>
          </a:p>
          <a:p>
            <a:pPr marL="495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Whatever It Tak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871560"/>
            <a:ext cx="846468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lnSpc>
                <a:spcPct val="11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To the (almost) zero bound: why the range?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0">
              <a:lnSpc>
                <a:spcPct val="11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lnSpc>
                <a:spcPct val="11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Purchase private assets: offset credit shock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buClr>
                <a:srgbClr val="00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ttempt to lower 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risk spreads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, increasing credit availabilit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buClr>
                <a:srgbClr val="00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New programs for agency MBS; consumer, small business AB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0">
              <a:lnSpc>
                <a:spcPct val="11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lnSpc>
                <a:spcPct val="11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Purchase longer-term Treasuries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buClr>
                <a:srgbClr val="00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ttempt to lower long-term rates (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term spreads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buClr>
                <a:srgbClr val="00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learly within their authorit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buClr>
                <a:srgbClr val="00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n combination with greater fiscal expans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0">
              <a:lnSpc>
                <a:spcPct val="11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lnSpc>
                <a:spcPct val="11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Policy commitment language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buClr>
                <a:srgbClr val="00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onvey staying at low rates for longer than anticipate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buClr>
                <a:srgbClr val="00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ome time” similar to “considerable period” language of 200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19160" y="1814400"/>
            <a:ext cx="5302440" cy="40165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onetary Policy: To the (Almost) Zero Bound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4976640" y="4603680"/>
            <a:ext cx="103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Current MA foreca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6018120" y="4321080"/>
            <a:ext cx="97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arket expect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4"/>
          <p:cNvSpPr/>
          <p:nvPr/>
        </p:nvSpPr>
        <p:spPr>
          <a:xfrm>
            <a:off x="5181480" y="1995480"/>
            <a:ext cx="0" cy="343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4834080" y="1951200"/>
            <a:ext cx="66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   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2109960" y="1446120"/>
            <a:ext cx="492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100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 Call vs. Market Expec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6"/>
          <p:cNvSpPr/>
          <p:nvPr/>
        </p:nvSpPr>
        <p:spPr>
          <a:xfrm>
            <a:off x="1849320" y="1809720"/>
            <a:ext cx="1244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56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1"/>
          <p:cNvSpPr/>
          <p:nvPr/>
        </p:nvSpPr>
        <p:spPr>
          <a:xfrm>
            <a:off x="5484960" y="5022720"/>
            <a:ext cx="414360" cy="35568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89720" y="4697280"/>
            <a:ext cx="196920" cy="355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4"/>
          <p:cNvSpPr/>
          <p:nvPr/>
        </p:nvSpPr>
        <p:spPr>
          <a:xfrm>
            <a:off x="606600" y="5905440"/>
            <a:ext cx="3867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>
              <a:spcBef>
                <a:spcPts val="437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croeconomic Advisers forecast prepared December 24, 2008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54360" y="2027160"/>
            <a:ext cx="4413600" cy="33451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81160" y="2027160"/>
            <a:ext cx="4387680" cy="33451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rescribed Funds Rate: Taylor Rule Perspecti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Rectangle 214"/>
          <p:cNvSpPr/>
          <p:nvPr/>
        </p:nvSpPr>
        <p:spPr>
          <a:xfrm>
            <a:off x="401760" y="1515960"/>
            <a:ext cx="4027320" cy="4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1920" algn="ctr"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ward-looking Policy Rule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sed on macroeconomic outco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86"/>
          <p:cNvSpPr/>
          <p:nvPr/>
        </p:nvSpPr>
        <p:spPr>
          <a:xfrm>
            <a:off x="4356000" y="2004840"/>
            <a:ext cx="1355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56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cen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 rot="10800000">
            <a:off x="263520" y="1998000"/>
            <a:ext cx="100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14"/>
          <p:cNvSpPr/>
          <p:nvPr/>
        </p:nvSpPr>
        <p:spPr>
          <a:xfrm>
            <a:off x="4697280" y="1515960"/>
            <a:ext cx="4097520" cy="4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1920" algn="ctr"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ward-looking Policy Rule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sed on FOMC &amp; MA foreca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65400" y="2179800"/>
            <a:ext cx="0" cy="28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3730680" y="2155680"/>
            <a:ext cx="50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   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317080" y="2179800"/>
            <a:ext cx="0" cy="28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8089920" y="2141640"/>
            <a:ext cx="50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   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4"/>
          <p:cNvSpPr/>
          <p:nvPr/>
        </p:nvSpPr>
        <p:spPr>
          <a:xfrm>
            <a:off x="606600" y="5905440"/>
            <a:ext cx="3867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>
              <a:spcBef>
                <a:spcPts val="437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croeconomic Advisers forecast prepared December 24, 2008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gnature Features of MA Forecas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947520"/>
            <a:ext cx="840096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1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Recession, transition, and recovery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37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eep recession through middle of 2009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37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ransition to below trend growth in 2</a:t>
            </a:r>
            <a:r>
              <a:rPr b="0" lang="en-US" sz="1800" spc="-1" strike="noStrike" baseline="30000">
                <a:solidFill>
                  <a:srgbClr val="000099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hal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37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Robust growth in 201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1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Inflation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37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Very low, below 1% in 2009, below ½% 20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37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erious risk of defla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1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Policy 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37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Whatever it takes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near zero funds rate + unconventional poli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37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scal: complement, second and significant stimulus packag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633240" y="1123920"/>
            <a:ext cx="7886880" cy="46386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027920" y="952560"/>
            <a:ext cx="1493640" cy="499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760" y="22968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ed Balance Sheet: Massive and Growing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75360" y="1635120"/>
            <a:ext cx="102960" cy="3441600"/>
          </a:xfrm>
          <a:custGeom>
            <a:avLst/>
            <a:gdLst>
              <a:gd name="textAreaLeft" fmla="*/ 0 w 102960"/>
              <a:gd name="textAreaRight" fmla="*/ 37080 w 102960"/>
              <a:gd name="textAreaTop" fmla="*/ 89640 h 3441600"/>
              <a:gd name="textAreaBottom" fmla="*/ 3351960 h 344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611760" y="1636560"/>
            <a:ext cx="103320" cy="3441960"/>
          </a:xfrm>
          <a:custGeom>
            <a:avLst/>
            <a:gdLst>
              <a:gd name="textAreaLeft" fmla="*/ 0 w 103320"/>
              <a:gd name="textAreaRight" fmla="*/ 37440 w 103320"/>
              <a:gd name="textAreaTop" fmla="*/ 89640 h 3441960"/>
              <a:gd name="textAreaBottom" fmla="*/ 3352320 h 344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161200" y="1636560"/>
            <a:ext cx="103320" cy="3441960"/>
          </a:xfrm>
          <a:custGeom>
            <a:avLst/>
            <a:gdLst>
              <a:gd name="textAreaLeft" fmla="*/ 0 w 103320"/>
              <a:gd name="textAreaRight" fmla="*/ 37440 w 103320"/>
              <a:gd name="textAreaTop" fmla="*/ 89640 h 3441960"/>
              <a:gd name="textAreaBottom" fmla="*/ 3352320 h 344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25400" y="334656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ff"/>
                </a:solidFill>
                <a:latin typeface="Arial"/>
              </a:rPr>
              <a:t>1,77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662160" y="33480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ff"/>
                </a:solidFill>
                <a:latin typeface="Arial"/>
              </a:rPr>
              <a:t>3,7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237520" y="3348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545000" y="2017800"/>
            <a:ext cx="4400640" cy="33433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276120" y="2017800"/>
            <a:ext cx="4402080" cy="33462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serves: More than Needed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4678200" y="1587600"/>
            <a:ext cx="413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100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sition of Reser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431640" y="1584360"/>
            <a:ext cx="413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100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 Amount of Reser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4803840" y="199404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>
              <a:spcBef>
                <a:spcPts val="56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 bill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665760" y="3452760"/>
            <a:ext cx="116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Total reser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7180200" y="4433760"/>
            <a:ext cx="109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Other reser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518240" y="3657600"/>
            <a:ext cx="579600" cy="2779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6095880" y="2535120"/>
            <a:ext cx="23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erves through lending progr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480960" y="197640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>
              <a:spcBef>
                <a:spcPts val="56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 bill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2254320" y="4697280"/>
            <a:ext cx="15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quired reser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2822400" y="3174840"/>
            <a:ext cx="132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ess reser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312840" y="2027160"/>
            <a:ext cx="4394160" cy="33451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4540320" y="2027160"/>
            <a:ext cx="4413240" cy="3345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280" y="23760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reasury Yields: Historic Low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214"/>
          <p:cNvSpPr/>
          <p:nvPr/>
        </p:nvSpPr>
        <p:spPr>
          <a:xfrm>
            <a:off x="501480" y="1608120"/>
            <a:ext cx="4069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1920" algn="ctr">
              <a:spcBef>
                <a:spcPts val="10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easury Y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14"/>
          <p:cNvSpPr/>
          <p:nvPr/>
        </p:nvSpPr>
        <p:spPr>
          <a:xfrm>
            <a:off x="4697280" y="1587600"/>
            <a:ext cx="4068720" cy="4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1920" algn="ctr"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ield Curve Slope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0 year-2 year spread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1863720" y="2708280"/>
            <a:ext cx="164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Ten-year Treasury yie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798480" y="4175280"/>
            <a:ext cx="171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Two-year Treasury yie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5737320" y="2219400"/>
            <a:ext cx="91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Act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5105520" y="4414680"/>
            <a:ext cx="105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sid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"/>
          <p:cNvSpPr/>
          <p:nvPr/>
        </p:nvSpPr>
        <p:spPr>
          <a:xfrm>
            <a:off x="5230800" y="2868480"/>
            <a:ext cx="65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Fit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Keys to an Eventual Rebound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2000" y="921960"/>
            <a:ext cx="742320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0">
              <a:lnSpc>
                <a:spcPct val="11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lnSpc>
                <a:spcPct val="13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rags do not continue at current pace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457200">
              <a:lnSpc>
                <a:spcPct val="130000"/>
              </a:lnSpc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redit conditions begin gradual improvem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457200">
              <a:lnSpc>
                <a:spcPct val="130000"/>
              </a:lnSpc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quity prices reboun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457200">
              <a:lnSpc>
                <a:spcPct val="130000"/>
              </a:lnSpc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ousing activity stabiliz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457200">
              <a:lnSpc>
                <a:spcPct val="130000"/>
              </a:lnSpc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ome prices fall at slower p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0">
              <a:lnSpc>
                <a:spcPct val="13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lnSpc>
                <a:spcPct val="13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Overwhelming policy response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457200">
              <a:lnSpc>
                <a:spcPct val="130000"/>
              </a:lnSpc>
              <a:buClr>
                <a:srgbClr val="00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Very large fiscal stimulus packag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457200">
              <a:lnSpc>
                <a:spcPct val="130000"/>
              </a:lnSpc>
              <a:buClr>
                <a:srgbClr val="00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onetary policy and balance sheet poli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3440" y="2030400"/>
            <a:ext cx="4429440" cy="33433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216000" y="2008080"/>
            <a:ext cx="4424400" cy="336096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Housing Construction: In Search of a Bottom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Rectangle 214"/>
          <p:cNvSpPr/>
          <p:nvPr/>
        </p:nvSpPr>
        <p:spPr>
          <a:xfrm>
            <a:off x="417600" y="1581120"/>
            <a:ext cx="402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1920" algn="ctr">
              <a:spcBef>
                <a:spcPts val="10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using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1720" y="1992240"/>
            <a:ext cx="1460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ous. un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98680" y="2181240"/>
            <a:ext cx="0" cy="286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3071880" y="2147760"/>
            <a:ext cx="50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   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027320" y="1982880"/>
            <a:ext cx="38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 rot="10800000">
            <a:off x="837720" y="4217760"/>
            <a:ext cx="170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Contribution of residential investment to GDP (righ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 rot="10800000">
            <a:off x="1026720" y="2256840"/>
            <a:ext cx="170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Housing starts (lef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1"/>
          <p:cNvSpPr/>
          <p:nvPr/>
        </p:nvSpPr>
        <p:spPr>
          <a:xfrm>
            <a:off x="4376880" y="1512720"/>
            <a:ext cx="45892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75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use Price Index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(4-quarter percent chan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86"/>
          <p:cNvSpPr/>
          <p:nvPr/>
        </p:nvSpPr>
        <p:spPr>
          <a:xfrm>
            <a:off x="4782960" y="1995480"/>
            <a:ext cx="1000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>
              <a:spcBef>
                <a:spcPts val="56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4842000" y="3451320"/>
            <a:ext cx="215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FHFA purchase-only ind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5307120" y="442764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Case-Shiller ind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848720" y="2179800"/>
            <a:ext cx="0" cy="28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7618320" y="2155680"/>
            <a:ext cx="50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   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533920" y="5495760"/>
            <a:ext cx="2340000" cy="43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se-Shiller cumulative declin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33.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HEO cumulative declin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12.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4"/>
          <p:cNvSpPr/>
          <p:nvPr/>
        </p:nvSpPr>
        <p:spPr>
          <a:xfrm>
            <a:off x="606600" y="5905440"/>
            <a:ext cx="3867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>
              <a:spcBef>
                <a:spcPts val="437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croeconomic Advisers forecast prepared December 24, 2008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98360" y="2027160"/>
            <a:ext cx="4413240" cy="33400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4514760" y="2027160"/>
            <a:ext cx="4391280" cy="33418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741920" y="2001960"/>
            <a:ext cx="90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llions $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124840" y="2179800"/>
            <a:ext cx="0" cy="28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7886880" y="2166840"/>
            <a:ext cx="50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   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14"/>
          <p:cNvSpPr/>
          <p:nvPr/>
        </p:nvSpPr>
        <p:spPr>
          <a:xfrm>
            <a:off x="4583160" y="1560600"/>
            <a:ext cx="4098960" cy="4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1920" algn="ctr"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usehold Net Worth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-quarter chan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quity Prices: Sharp Decline, then Rebound Next 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243000" y="1557360"/>
            <a:ext cx="43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100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&amp;P 500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86"/>
          <p:cNvSpPr/>
          <p:nvPr/>
        </p:nvSpPr>
        <p:spPr>
          <a:xfrm>
            <a:off x="468360" y="2001960"/>
            <a:ext cx="100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>
              <a:spcBef>
                <a:spcPts val="56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124160" y="2179800"/>
            <a:ext cx="0" cy="28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6"/>
          <p:cNvSpPr/>
          <p:nvPr/>
        </p:nvSpPr>
        <p:spPr>
          <a:xfrm>
            <a:off x="3894120" y="2146320"/>
            <a:ext cx="50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   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2120760" y="2943360"/>
            <a:ext cx="195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0099ff"/>
                </a:solidFill>
                <a:latin typeface="Arial"/>
              </a:rPr>
              <a:t>Long-term fair value 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4"/>
          <p:cNvSpPr/>
          <p:nvPr/>
        </p:nvSpPr>
        <p:spPr>
          <a:xfrm>
            <a:off x="606600" y="5905440"/>
            <a:ext cx="3867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>
              <a:spcBef>
                <a:spcPts val="437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croeconomic Advisers forecast prepared December 24, 2008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ompared to What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4240" y="934920"/>
            <a:ext cx="823572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1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Early 1990s: Bank capital shortage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1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Fall 1998: LTCM, etc.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1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2001 Recession: Wealth destruction, bursting bubble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1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1981-82: Worst postwar recession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1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Japan in 1990s: ZRP and QE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1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The Great Depression: debt-deflation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1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The aftermath of financial crises” (Reinhart &amp; Rogoff)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ftermath of Past Financial Cris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90680" y="1373040"/>
            <a:ext cx="6362640" cy="439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890960" y="3416400"/>
            <a:ext cx="3814920" cy="2048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43560" y="2028960"/>
            <a:ext cx="4403520" cy="33447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0"/>
          <p:cNvSpPr/>
          <p:nvPr/>
        </p:nvSpPr>
        <p:spPr>
          <a:xfrm>
            <a:off x="6624720" y="3568680"/>
            <a:ext cx="123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Core P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5037120" y="2320920"/>
            <a:ext cx="128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Headline P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6648480" y="2178000"/>
            <a:ext cx="0" cy="287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6427800" y="2144880"/>
            <a:ext cx="50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   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7311960" y="3192480"/>
            <a:ext cx="143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0099ff"/>
                </a:solidFill>
                <a:latin typeface="Arial"/>
              </a:rPr>
              <a:t>FOMC comfort 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4726080" y="2000160"/>
            <a:ext cx="73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56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24000" y="2027160"/>
            <a:ext cx="4271760" cy="3567240"/>
          </a:xfrm>
          <a:prstGeom prst="rect">
            <a:avLst/>
          </a:prstGeom>
          <a:ln w="0">
            <a:noFill/>
          </a:ln>
        </p:spPr>
      </p:pic>
      <p:sp>
        <p:nvSpPr>
          <p:cNvPr id="107" name="Line 4"/>
          <p:cNvSpPr/>
          <p:nvPr/>
        </p:nvSpPr>
        <p:spPr>
          <a:xfrm>
            <a:off x="1967040" y="2179800"/>
            <a:ext cx="0" cy="286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731960" y="2139840"/>
            <a:ext cx="50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   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 Forecast Summar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431640" y="1998720"/>
            <a:ext cx="730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56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 rot="10800000">
            <a:off x="1819440" y="4722120"/>
            <a:ext cx="169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Real GDP grow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 rot="10800000">
            <a:off x="2327040" y="2522880"/>
            <a:ext cx="1252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Unemployment 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44680" y="1563840"/>
            <a:ext cx="39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DP growth and Unemployment Fore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4"/>
          <p:cNvSpPr/>
          <p:nvPr/>
        </p:nvSpPr>
        <p:spPr>
          <a:xfrm>
            <a:off x="606600" y="5905440"/>
            <a:ext cx="3867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>
              <a:spcBef>
                <a:spcPts val="437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croeconomic Advisers forecast prepared December 24, 2008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4788000" y="1600200"/>
            <a:ext cx="39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lation Fore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cession Comparison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 Box 34"/>
          <p:cNvSpPr/>
          <p:nvPr/>
        </p:nvSpPr>
        <p:spPr>
          <a:xfrm>
            <a:off x="606600" y="5905440"/>
            <a:ext cx="3867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>
              <a:spcBef>
                <a:spcPts val="437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croeconomic Advisers forecast prepared December 24, 2008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44680" y="1479600"/>
            <a:ext cx="8059680" cy="312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Assumed Fiscal Stimulus Packag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61840" y="1592280"/>
            <a:ext cx="7818480" cy="33685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4"/>
          <p:cNvSpPr/>
          <p:nvPr/>
        </p:nvSpPr>
        <p:spPr>
          <a:xfrm>
            <a:off x="606600" y="5905440"/>
            <a:ext cx="3867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>
              <a:spcBef>
                <a:spcPts val="437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croeconomic Advisers forecast prepared December 24, 2008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29160" y="2023920"/>
            <a:ext cx="4394160" cy="33354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96920" y="2022480"/>
            <a:ext cx="4414680" cy="33559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23760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reasury Supply: A Lot in the Pipelin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214"/>
          <p:cNvSpPr/>
          <p:nvPr/>
        </p:nvSpPr>
        <p:spPr>
          <a:xfrm>
            <a:off x="514440" y="1625760"/>
            <a:ext cx="4068720" cy="4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1920" algn="ctr"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 Treasury Borrowing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-quarter rolling s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14"/>
          <p:cNvSpPr/>
          <p:nvPr/>
        </p:nvSpPr>
        <p:spPr>
          <a:xfrm>
            <a:off x="4697280" y="1625760"/>
            <a:ext cx="4068720" cy="4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1920" algn="ctr"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deral Debt Held by the Public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% of GD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7380360" y="2658960"/>
            <a:ext cx="1035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Projected 2010Q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63080" y="2820960"/>
            <a:ext cx="331560" cy="106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6"/>
          <p:cNvSpPr/>
          <p:nvPr/>
        </p:nvSpPr>
        <p:spPr>
          <a:xfrm>
            <a:off x="466560" y="1969920"/>
            <a:ext cx="7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56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 billion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3043080" y="2390760"/>
            <a:ext cx="103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Projected 2009Q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917880" y="2447640"/>
            <a:ext cx="3463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68280" y="2039760"/>
            <a:ext cx="4381560" cy="33354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255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 Synchronized Global Recess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281160" y="1506600"/>
            <a:ext cx="434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75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in Real GDP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-quarter moving aver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176040" y="1990800"/>
            <a:ext cx="129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56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10120" y="2179800"/>
            <a:ext cx="0" cy="28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3879720" y="2141640"/>
            <a:ext cx="50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   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5052960" y="4572000"/>
            <a:ext cx="308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*At market exchange rat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4460760" y="1514520"/>
            <a:ext cx="434052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75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GDP Growth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er to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quar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4"/>
          <p:cNvSpPr/>
          <p:nvPr/>
        </p:nvSpPr>
        <p:spPr>
          <a:xfrm>
            <a:off x="606600" y="5905440"/>
            <a:ext cx="8073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>
              <a:spcBef>
                <a:spcPts val="437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croeconomic Advisers forecast prepared December 24, 2008. Note: Macroeconomic Advisers forecast for foreign GDP is based on projections by Oxford Economic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 rot="10800000">
            <a:off x="815760" y="2504520"/>
            <a:ext cx="133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A US GD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 rot="10800000">
            <a:off x="2949120" y="3064680"/>
            <a:ext cx="157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World GD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119560" y="2259000"/>
            <a:ext cx="3146400" cy="231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1:06:11Z</dcterms:created>
  <dc:creator> </dc:creator>
  <dc:description/>
  <dc:language>en-US</dc:language>
  <cp:lastModifiedBy> </cp:lastModifiedBy>
  <cp:lastPrinted>2008-12-16T21:58:07Z</cp:lastPrinted>
  <dcterms:modified xsi:type="dcterms:W3CDTF">2009-01-08T13:55:31Z</dcterms:modified>
  <cp:revision>6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46230798</vt:r8>
  </property>
  <property fmtid="{D5CDD505-2E9C-101B-9397-08002B2CF9AE}" pid="3" name="_AuthorEmail">
    <vt:lpwstr>Ann.Dunbar@bea.gov</vt:lpwstr>
  </property>
  <property fmtid="{D5CDD505-2E9C-101B-9397-08002B2CF9AE}" pid="4" name="_AuthorEmailDisplayName">
    <vt:lpwstr>Dunbar, Ann</vt:lpwstr>
  </property>
  <property fmtid="{D5CDD505-2E9C-101B-9397-08002B2CF9AE}" pid="5" name="_EmailSubject">
    <vt:lpwstr>Meyer's 01-08-2009 PPT</vt:lpwstr>
  </property>
  <property fmtid="{D5CDD505-2E9C-101B-9397-08002B2CF9AE}" pid="6" name="_NewReviewCycle">
    <vt:lpwstr/>
  </property>
</Properties>
</file>