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968280" y="-360"/>
            <a:ext cx="30387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98080" y="692280"/>
            <a:ext cx="4622760" cy="346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5560" cy="41547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0" y="877068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968280" y="8770680"/>
            <a:ext cx="3038760" cy="4618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315C8-E630-4EE2-B639-6012CE4FA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FE530D-8DCF-4058-B648-6B703A5C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8440" y="69228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556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182328-889D-40EC-B3F2-B5B21C38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1280" y="4389480"/>
            <a:ext cx="56055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DBC4A-62D9-4D5D-9939-D62E3C9EA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16080" y="69048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9600" y="4387680"/>
            <a:ext cx="512892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74010-8733-47CE-A7DB-FF7689BE9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963960" y="877248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B33BB6-37F3-4004-8804-A5E7ABD0A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9600" y="4389120"/>
            <a:ext cx="5128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0EF4B0-461A-4C81-813E-F786C359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963960" y="877248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8FD3FC7-71A5-4844-B8EE-AD245D579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9600" y="4389120"/>
            <a:ext cx="5128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14E670-ADB8-476F-8387-71D562CA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963960" y="877248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27BC0DE-7AAF-4D17-B42A-277D59304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9600" y="4389120"/>
            <a:ext cx="5128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B9FE81-B268-417D-B230-183C47F82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01680" y="69228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389480"/>
            <a:ext cx="560556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8640" y="8771040"/>
            <a:ext cx="3038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2DCFE6-7A3E-4747-9B8A-80A24B62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63960" y="8772480"/>
            <a:ext cx="30448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70CD688-5AD0-4CB7-B6F9-238B2FC8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19320" y="6904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9600" y="4389120"/>
            <a:ext cx="512892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680" y="361584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72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612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856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368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612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856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742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72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680" y="361584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72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4612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8560" y="101232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368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4612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8560" y="3615840"/>
            <a:ext cx="264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742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720" y="361584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368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720" y="1012320"/>
            <a:ext cx="40158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680" y="3615840"/>
            <a:ext cx="82296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680" y="1012320"/>
            <a:ext cx="8229600" cy="49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49280" y="879480"/>
            <a:ext cx="82454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449280" y="6134040"/>
            <a:ext cx="82454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oter Placeholder 2"/>
          <p:cNvSpPr/>
          <p:nvPr/>
        </p:nvSpPr>
        <p:spPr>
          <a:xfrm>
            <a:off x="3130560" y="62388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© Macroeconomic Advi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lide Number Placeholder 3"/>
          <p:cNvSpPr/>
          <p:nvPr/>
        </p:nvSpPr>
        <p:spPr>
          <a:xfrm>
            <a:off x="6559560" y="6238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938E-B99B-46FE-A839-C9C78FEB5829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49280" y="879480"/>
            <a:ext cx="82454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449280" y="6134040"/>
            <a:ext cx="82454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76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1141200"/>
            <a:ext cx="823608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Whatever It Tak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Laurence H. Mey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anuary 8, 2009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sentation to the National Economics Club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444600" y="179280"/>
            <a:ext cx="541656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15960" y="3409920"/>
            <a:ext cx="3814920" cy="204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4680" y="2027160"/>
            <a:ext cx="4403520" cy="334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06840" y="2019240"/>
            <a:ext cx="4415040" cy="3355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572160" y="3657600"/>
            <a:ext cx="577800" cy="863640"/>
          </a:xfrm>
          <a:custGeom>
            <a:avLst/>
            <a:gdLst/>
            <a:ahLst/>
            <a:rect l="l" t="t" r="r" b="b"/>
            <a:pathLst>
              <a:path w="364" h="544">
                <a:moveTo>
                  <a:pt x="0" y="66"/>
                </a:moveTo>
                <a:lnTo>
                  <a:pt x="176" y="544"/>
                </a:lnTo>
                <a:lnTo>
                  <a:pt x="364" y="0"/>
                </a:lnTo>
                <a:lnTo>
                  <a:pt x="0" y="6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flation: A Serious Thre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544680" y="159876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4"/>
          <p:cNvSpPr/>
          <p:nvPr/>
        </p:nvSpPr>
        <p:spPr>
          <a:xfrm>
            <a:off x="4768920" y="5362560"/>
            <a:ext cx="386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fidence band based on historical errors of consensus forecast as computed by Reifschneider and Tulip (2007) and reported in FOMC minute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800600" y="1585800"/>
            <a:ext cx="380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lation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355840" y="3567240"/>
            <a:ext cx="123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r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68240" y="2319480"/>
            <a:ext cx="12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eadlin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930920" y="3171960"/>
            <a:ext cx="14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eadlin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73960" y="3778200"/>
            <a:ext cx="544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780000"/>
            <a:ext cx="0" cy="2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5118120" y="4121280"/>
            <a:ext cx="17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5% confidence 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2379600" y="2176560"/>
            <a:ext cx="0" cy="28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58920" y="21430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7400" y="3718080"/>
            <a:ext cx="247680" cy="43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3043080" y="3191040"/>
            <a:ext cx="14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FOMC comfort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457200" y="1998720"/>
            <a:ext cx="73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97280" y="1994040"/>
            <a:ext cx="7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17440" y="2023920"/>
            <a:ext cx="4416480" cy="3354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457880" y="1935000"/>
            <a:ext cx="4533840" cy="34419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8"/>
          <p:cNvSpPr/>
          <p:nvPr/>
        </p:nvSpPr>
        <p:spPr>
          <a:xfrm>
            <a:off x="4654440" y="1579680"/>
            <a:ext cx="4251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orecast with Deflationary Conc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4232160" y="2003400"/>
            <a:ext cx="1535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28520" y="2000160"/>
            <a:ext cx="11905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209520" y="1569960"/>
            <a:ext cx="4251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aseline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" y="2462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eflation: A Serious Th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 rot="10800000">
            <a:off x="2365200" y="3749040"/>
            <a:ext cx="133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re PCE Inf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127240" y="21542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5200" y="2184480"/>
            <a:ext cx="0" cy="285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6434280" y="214956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72240" y="2179800"/>
            <a:ext cx="0" cy="28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November 5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 rot="10800000">
            <a:off x="6964200" y="2772720"/>
            <a:ext cx="133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re PCE Inf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 rot="10800000">
            <a:off x="2910960" y="2874240"/>
            <a:ext cx="15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nflation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0800000">
            <a:off x="6647040" y="4209480"/>
            <a:ext cx="157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Inflation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4160" y="2027160"/>
            <a:ext cx="4405320" cy="3345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35640" y="2027160"/>
            <a:ext cx="4397400" cy="3345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edit Conditions: The Dominant Forecast Facto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243000" y="1515960"/>
            <a:ext cx="43401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e Yield Spread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oody’s Baa less Treas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69720" y="199080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is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189320" y="1998720"/>
            <a:ext cx="214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 of ban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4376880" y="1517760"/>
            <a:ext cx="4589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ks’ Willingness to Lend*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nior Loan Officer Surv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73680" y="5392800"/>
            <a:ext cx="342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 Share of institutions more (positive) or less (negative) willing to make consumer installment loa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38600" y="2036880"/>
            <a:ext cx="4381560" cy="3330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16080" y="2027160"/>
            <a:ext cx="4403520" cy="33451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redit Conditions: Gradual Recove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86"/>
          <p:cNvSpPr/>
          <p:nvPr/>
        </p:nvSpPr>
        <p:spPr>
          <a:xfrm>
            <a:off x="352440" y="1989000"/>
            <a:ext cx="135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age poi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084480" y="341316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312840" y="3483000"/>
            <a:ext cx="17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14"/>
          <p:cNvSpPr/>
          <p:nvPr/>
        </p:nvSpPr>
        <p:spPr>
          <a:xfrm>
            <a:off x="468360" y="1770120"/>
            <a:ext cx="411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10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a Corporate Yield 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14"/>
          <p:cNvSpPr/>
          <p:nvPr/>
        </p:nvSpPr>
        <p:spPr>
          <a:xfrm>
            <a:off x="4621320" y="1770120"/>
            <a:ext cx="410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10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Mortgage 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6"/>
          <p:cNvSpPr/>
          <p:nvPr/>
        </p:nvSpPr>
        <p:spPr>
          <a:xfrm>
            <a:off x="4776840" y="1992240"/>
            <a:ext cx="135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age poi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121360" y="2529000"/>
            <a:ext cx="78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615080" y="4197240"/>
            <a:ext cx="7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3396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4002120" y="21556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59920" y="2179800"/>
            <a:ext cx="0" cy="286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8129520" y="21556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29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d Liquidity Policies: A Summa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20840" y="1247760"/>
            <a:ext cx="8501040" cy="459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99880" y="2027160"/>
            <a:ext cx="4394520" cy="3338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592520" y="2027160"/>
            <a:ext cx="4394160" cy="334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mprovement in Interbank Funding Marke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543560" y="1515960"/>
            <a:ext cx="41367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or Credit Spread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lative to OIS R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4697280" y="200196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is poi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67680" y="4121280"/>
            <a:ext cx="76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3-month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861240" y="478152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1-month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455760" y="200196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1974960" y="460836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ffective funds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348000" y="4428720"/>
            <a:ext cx="257040" cy="2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2184480" y="317196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Arial"/>
              </a:rPr>
              <a:t>3-month Libor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417600" y="1527120"/>
            <a:ext cx="413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al Funds Rate and Li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5"/>
          <p:cNvSpPr/>
          <p:nvPr/>
        </p:nvSpPr>
        <p:spPr>
          <a:xfrm>
            <a:off x="585720" y="5334120"/>
            <a:ext cx="39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Effective federal funds rate is a ten-day moving average.  The range shown shows the intraday variation, measured as +/- one standard deviatio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New Policy Regim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03480" y="1035000"/>
            <a:ext cx="735624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roader use of Fed’s balance sheet to achieve objectiv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ntion of these policies is to influence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financial condi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onitor credit conditions to gauge succe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ut no explicit targ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antitative easing of a different s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olicies will inject large amounts of reserv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But goal is not the level of reserv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single measure to summarize Fed 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atch the H.4.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kes </a:t>
            </a: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communication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challenging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Governanc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iss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All decisions made by FOMC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33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Even though 13(3) programs under authority of Board</a:t>
            </a: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  <a:p>
            <a:pPr marL="495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Whatever It Tak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871560"/>
            <a:ext cx="84646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o the (almost) zero bound: why the range?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urchase private assets: offset credit shock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ttempt to lower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risk spread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, increasing credit availabilit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ew programs for agency MBS; consumer, small business AB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urchase longer-term Treasuri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ttempt to lower long-term rates (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term spread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learly within their authorit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n combination with greater fiscal expans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1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1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olicy commitment langua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onvey staying at low rates for longer than anticipate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1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ome time” similar to “considerable period” language of 200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19160" y="1814400"/>
            <a:ext cx="5302440" cy="4016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onetary Policy: To the (Almost) Zero Boun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4976640" y="4603680"/>
            <a:ext cx="1030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urrent MA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6018120" y="4321080"/>
            <a:ext cx="97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rket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4"/>
          <p:cNvSpPr/>
          <p:nvPr/>
        </p:nvSpPr>
        <p:spPr>
          <a:xfrm>
            <a:off x="5181480" y="1995480"/>
            <a:ext cx="0" cy="343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4834080" y="1951200"/>
            <a:ext cx="6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2109960" y="1446120"/>
            <a:ext cx="492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 Call vs. Market Expec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6"/>
          <p:cNvSpPr/>
          <p:nvPr/>
        </p:nvSpPr>
        <p:spPr>
          <a:xfrm>
            <a:off x="1849320" y="1809720"/>
            <a:ext cx="1244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5484960" y="5022720"/>
            <a:ext cx="414360" cy="35568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489720" y="4697280"/>
            <a:ext cx="196920" cy="355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54360" y="2027160"/>
            <a:ext cx="4413600" cy="3345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81160" y="2027160"/>
            <a:ext cx="4387680" cy="33451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rescribed Funds Rate: Taylor Rule Perspec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Rectangle 214"/>
          <p:cNvSpPr/>
          <p:nvPr/>
        </p:nvSpPr>
        <p:spPr>
          <a:xfrm>
            <a:off x="401760" y="1515960"/>
            <a:ext cx="40273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ward-looking Policy Rule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croeconomic outco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6"/>
          <p:cNvSpPr/>
          <p:nvPr/>
        </p:nvSpPr>
        <p:spPr>
          <a:xfrm>
            <a:off x="4356000" y="2004840"/>
            <a:ext cx="135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 rot="10800000">
            <a:off x="263520" y="199800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14"/>
          <p:cNvSpPr/>
          <p:nvPr/>
        </p:nvSpPr>
        <p:spPr>
          <a:xfrm>
            <a:off x="4697280" y="1515960"/>
            <a:ext cx="40975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-looking Policy Rule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FOMC &amp; MA foreca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65400" y="2179800"/>
            <a:ext cx="0" cy="28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3730680" y="21556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1708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8089920" y="21416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gnature Features of MA Foreca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47520"/>
            <a:ext cx="8400960" cy="51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Recession, transition, and recovery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ep recession through middle of 2009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ransition to below trend growth in 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hal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Robust growth in 201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Infl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Very low, below 1% in 2009, below ½% 20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erious risk of defla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Policy 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Whatever it take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near zero funds rate + unconventional poli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37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scal: complement, second and significant stimulus packa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33240" y="1123920"/>
            <a:ext cx="7886880" cy="46386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27920" y="952560"/>
            <a:ext cx="1493640" cy="499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760" y="2296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ed Balance Sheet: Massive and Growin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75360" y="1635120"/>
            <a:ext cx="102960" cy="3441600"/>
          </a:xfrm>
          <a:custGeom>
            <a:avLst/>
            <a:gdLst>
              <a:gd name="textAreaLeft" fmla="*/ 0 w 102960"/>
              <a:gd name="textAreaRight" fmla="*/ 37080 w 102960"/>
              <a:gd name="textAreaTop" fmla="*/ 89640 h 3441600"/>
              <a:gd name="textAreaBottom" fmla="*/ 3351960 h 344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611760" y="1636560"/>
            <a:ext cx="103320" cy="3441960"/>
          </a:xfrm>
          <a:custGeom>
            <a:avLst/>
            <a:gdLst>
              <a:gd name="textAreaLeft" fmla="*/ 0 w 103320"/>
              <a:gd name="textAreaRight" fmla="*/ 37440 w 103320"/>
              <a:gd name="textAreaTop" fmla="*/ 89640 h 3441960"/>
              <a:gd name="textAreaBottom" fmla="*/ 3352320 h 344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61200" y="1636560"/>
            <a:ext cx="103320" cy="3441960"/>
          </a:xfrm>
          <a:custGeom>
            <a:avLst/>
            <a:gdLst>
              <a:gd name="textAreaLeft" fmla="*/ 0 w 103320"/>
              <a:gd name="textAreaRight" fmla="*/ 37440 w 103320"/>
              <a:gd name="textAreaTop" fmla="*/ 89640 h 3441960"/>
              <a:gd name="textAreaBottom" fmla="*/ 3352320 h 344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25400" y="334656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1,7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62160" y="3348000"/>
            <a:ext cx="4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3,7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37520" y="3348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45000" y="2017800"/>
            <a:ext cx="4400640" cy="3343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76120" y="2017800"/>
            <a:ext cx="4402080" cy="334620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serves: More than Neede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4678200" y="1587600"/>
            <a:ext cx="41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tion of Rese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431640" y="1584360"/>
            <a:ext cx="41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Amount of Reser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4803840" y="199404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 bill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665760" y="3452760"/>
            <a:ext cx="116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otal rese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7180200" y="4433760"/>
            <a:ext cx="109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ther rese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18240" y="3657600"/>
            <a:ext cx="579600" cy="277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095880" y="2535120"/>
            <a:ext cx="233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erves through lending progr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80960" y="197640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 bill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254320" y="4697280"/>
            <a:ext cx="15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quired rese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2822400" y="3174840"/>
            <a:ext cx="132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cess reser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12840" y="2027160"/>
            <a:ext cx="4394160" cy="3345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540320" y="2027160"/>
            <a:ext cx="4413240" cy="33451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280" y="23760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easury Yields: Historic Low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214"/>
          <p:cNvSpPr/>
          <p:nvPr/>
        </p:nvSpPr>
        <p:spPr>
          <a:xfrm>
            <a:off x="501480" y="1608120"/>
            <a:ext cx="4069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10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sury Yie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14"/>
          <p:cNvSpPr/>
          <p:nvPr/>
        </p:nvSpPr>
        <p:spPr>
          <a:xfrm>
            <a:off x="4697280" y="1587600"/>
            <a:ext cx="40687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ield Curve Slope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0 year-2 year sprea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1863720" y="2708280"/>
            <a:ext cx="164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Ten-year Treasury y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798480" y="4175280"/>
            <a:ext cx="171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Two-year Treasury y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5737320" y="2219400"/>
            <a:ext cx="91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Act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5105520" y="4414680"/>
            <a:ext cx="105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sidu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5230800" y="2868480"/>
            <a:ext cx="65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F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Keys to an Eventual Reboun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2000" y="921960"/>
            <a:ext cx="742320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0">
              <a:lnSpc>
                <a:spcPct val="11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3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rags do not continue at current pa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redit conditions begin gradual improve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quity prices reboun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using activity stabiliz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ome prices fall at slower p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0">
              <a:lnSpc>
                <a:spcPct val="13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495360" indent="-495360">
              <a:lnSpc>
                <a:spcPct val="13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Overwhelming policy respons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y large fiscal stimulus packag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914400" indent="-457200">
              <a:lnSpc>
                <a:spcPct val="130000"/>
              </a:lnSpc>
              <a:buClr>
                <a:srgbClr val="00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onetary policy and balance sheet poli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3440" y="2030400"/>
            <a:ext cx="4429440" cy="33433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16000" y="2008080"/>
            <a:ext cx="4424400" cy="33609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using Construction: In Search of a Botto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Rectangle 214"/>
          <p:cNvSpPr/>
          <p:nvPr/>
        </p:nvSpPr>
        <p:spPr>
          <a:xfrm>
            <a:off x="417600" y="1581120"/>
            <a:ext cx="402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10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ing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1720" y="1992240"/>
            <a:ext cx="146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ous. un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98680" y="2181240"/>
            <a:ext cx="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071880" y="214776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27320" y="1982880"/>
            <a:ext cx="38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 rot="10800000">
            <a:off x="837720" y="4217760"/>
            <a:ext cx="170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ontribution of residential investment to GDP (righ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 rot="10800000">
            <a:off x="1026720" y="2256840"/>
            <a:ext cx="170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ousing starts (lef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376880" y="1512720"/>
            <a:ext cx="45892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e Price Index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(4-quarter percent ch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6"/>
          <p:cNvSpPr/>
          <p:nvPr/>
        </p:nvSpPr>
        <p:spPr>
          <a:xfrm>
            <a:off x="4782960" y="1995480"/>
            <a:ext cx="100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4842000" y="3451320"/>
            <a:ext cx="215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FHFA purchase-only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5307120" y="442764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Case-Shiller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2179800"/>
            <a:ext cx="0" cy="283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7618320" y="21556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33920" y="5495760"/>
            <a:ext cx="234000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e-Shiller cumulative declin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33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HEO cumulative declin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12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98360" y="2027160"/>
            <a:ext cx="4413240" cy="3340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514760" y="2027160"/>
            <a:ext cx="4391280" cy="3341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741920" y="2001960"/>
            <a:ext cx="90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llions $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12484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886880" y="21668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14"/>
          <p:cNvSpPr/>
          <p:nvPr/>
        </p:nvSpPr>
        <p:spPr>
          <a:xfrm>
            <a:off x="4583160" y="1560600"/>
            <a:ext cx="409896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ehold Net Worth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-quarter ch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quity Prices: Sharp Decline, then Rebound Next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243000" y="1557360"/>
            <a:ext cx="43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100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&amp;P 500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6"/>
          <p:cNvSpPr/>
          <p:nvPr/>
        </p:nvSpPr>
        <p:spPr>
          <a:xfrm>
            <a:off x="468360" y="2001960"/>
            <a:ext cx="100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2416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3894120" y="214632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2120760" y="2943360"/>
            <a:ext cx="195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Long-term fair value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ompared to What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4240" y="934920"/>
            <a:ext cx="823572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arly 1990s: Bank capital shorta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Fall 1998: LTCM, etc.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2001 Recession: Wealth destruction, bursting bubbl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1981-82: Worst postwar recess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Japan in 1990s: ZRP and Q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e Great Depression: debt-defl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1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The aftermath of financial crises” (Reinhart &amp; Rogoff)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ftermath of Past Financial Cris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90680" y="1373040"/>
            <a:ext cx="6362640" cy="439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890960" y="3416400"/>
            <a:ext cx="3814920" cy="204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43560" y="2028960"/>
            <a:ext cx="4403520" cy="3344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6624720" y="3568680"/>
            <a:ext cx="123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Cor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5037120" y="2320920"/>
            <a:ext cx="128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Headline P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648480" y="2178000"/>
            <a:ext cx="0" cy="287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427800" y="214488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7311960" y="3192480"/>
            <a:ext cx="143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0099ff"/>
                </a:solidFill>
                <a:latin typeface="Arial"/>
              </a:rPr>
              <a:t>FOMC comfort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4726080" y="2000160"/>
            <a:ext cx="73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2027160"/>
            <a:ext cx="4271760" cy="3567240"/>
          </a:xfrm>
          <a:prstGeom prst="rect">
            <a:avLst/>
          </a:prstGeom>
          <a:ln w="0">
            <a:noFill/>
          </a:ln>
        </p:spPr>
      </p:pic>
      <p:sp>
        <p:nvSpPr>
          <p:cNvPr id="107" name="Line 4"/>
          <p:cNvSpPr/>
          <p:nvPr/>
        </p:nvSpPr>
        <p:spPr>
          <a:xfrm>
            <a:off x="1967040" y="2179800"/>
            <a:ext cx="0" cy="28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731960" y="21398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 Forecast Summar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431640" y="1998720"/>
            <a:ext cx="7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 rot="10800000">
            <a:off x="1819440" y="4722120"/>
            <a:ext cx="1699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Real GDP grow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 rot="10800000">
            <a:off x="2327040" y="2522880"/>
            <a:ext cx="1252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Unemployment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44680" y="156384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P growth and Unemployment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788000" y="1600200"/>
            <a:ext cx="39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ssion Comparison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4680" y="1479600"/>
            <a:ext cx="8059680" cy="312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Assumed Fiscal Stimulus Packag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61840" y="1592280"/>
            <a:ext cx="7818480" cy="3368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4"/>
          <p:cNvSpPr/>
          <p:nvPr/>
        </p:nvSpPr>
        <p:spPr>
          <a:xfrm>
            <a:off x="606600" y="5905440"/>
            <a:ext cx="38671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29160" y="2023920"/>
            <a:ext cx="4394160" cy="33354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6920" y="2022480"/>
            <a:ext cx="4414680" cy="3355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3760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easury Supply: A Lot in the Pipelin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214"/>
          <p:cNvSpPr/>
          <p:nvPr/>
        </p:nvSpPr>
        <p:spPr>
          <a:xfrm>
            <a:off x="514440" y="1625760"/>
            <a:ext cx="40687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Treasury Borrowing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-quarter rolling s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4"/>
          <p:cNvSpPr/>
          <p:nvPr/>
        </p:nvSpPr>
        <p:spPr>
          <a:xfrm>
            <a:off x="4697280" y="1625760"/>
            <a:ext cx="4068720" cy="4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1920" algn="ctr"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deral Debt Held by the Public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7380360" y="2658960"/>
            <a:ext cx="1035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jected 2010Q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3080" y="2820960"/>
            <a:ext cx="331560" cy="10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6"/>
          <p:cNvSpPr/>
          <p:nvPr/>
        </p:nvSpPr>
        <p:spPr>
          <a:xfrm>
            <a:off x="466560" y="1969920"/>
            <a:ext cx="7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$ billion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3043080" y="2390760"/>
            <a:ext cx="103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624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rojected 2009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7880" y="2447640"/>
            <a:ext cx="3463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68280" y="2039760"/>
            <a:ext cx="4381560" cy="33354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55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Synchronized Global Recess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281160" y="1506600"/>
            <a:ext cx="43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ge in Real GDP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-quarter moving aver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76040" y="1990800"/>
            <a:ext cx="129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56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10120" y="2179800"/>
            <a:ext cx="0" cy="28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879720" y="2141640"/>
            <a:ext cx="5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   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5052960" y="4572000"/>
            <a:ext cx="3081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At market exchange ra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4460760" y="1514520"/>
            <a:ext cx="434052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 algn="ctr">
              <a:spcBef>
                <a:spcPts val="751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GDP Growth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rter to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quar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4"/>
          <p:cNvSpPr/>
          <p:nvPr/>
        </p:nvSpPr>
        <p:spPr>
          <a:xfrm>
            <a:off x="606600" y="5905440"/>
            <a:ext cx="8073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60" indent="-2880">
              <a:spcBef>
                <a:spcPts val="437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croeconomic Advisers forecast prepared December 24, 2008. Note: Macroeconomic Advisers forecast for foreign GDP is based on projections by Oxford Economics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 rot="10800000">
            <a:off x="815760" y="2504520"/>
            <a:ext cx="133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MA US G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 rot="10800000">
            <a:off x="2949120" y="3064680"/>
            <a:ext cx="157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World G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119560" y="2259000"/>
            <a:ext cx="3146400" cy="231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1:06:11Z</dcterms:created>
  <dc:creator> </dc:creator>
  <dc:description/>
  <dc:language>en-US</dc:language>
  <cp:lastModifiedBy> </cp:lastModifiedBy>
  <cp:lastPrinted>2008-12-16T21:58:07Z</cp:lastPrinted>
  <dcterms:modified xsi:type="dcterms:W3CDTF">2009-01-08T13:55:31Z</dcterms:modified>
  <cp:revision>6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6230798</vt:r8>
  </property>
  <property fmtid="{D5CDD505-2E9C-101B-9397-08002B2CF9AE}" pid="3" name="_AuthorEmail">
    <vt:lpwstr>Ann.Dunbar@bea.gov</vt:lpwstr>
  </property>
  <property fmtid="{D5CDD505-2E9C-101B-9397-08002B2CF9AE}" pid="4" name="_AuthorEmailDisplayName">
    <vt:lpwstr>Dunbar, Ann</vt:lpwstr>
  </property>
  <property fmtid="{D5CDD505-2E9C-101B-9397-08002B2CF9AE}" pid="5" name="_EmailSubject">
    <vt:lpwstr>Meyer's 01-08-2009 PPT</vt:lpwstr>
  </property>
  <property fmtid="{D5CDD505-2E9C-101B-9397-08002B2CF9AE}" pid="6" name="_NewReviewCycle">
    <vt:lpwstr/>
  </property>
</Properties>
</file>