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E77-D020-4536-BA94-600C154D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ourses eliminated (saved 73 bod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Courses reduced (saved 98 bod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D42-B25B-4FD0-B5CF-BBDABBBB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9C6-938F-4C4D-9F51-04DC14AC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656-9350-4803-B468-AD44203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9A6-B484-4A30-8059-7C79D168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415-E5B6-4EDD-8F75-B19580FC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4AEF-FB46-4E9F-9DE0-8A9DB6A1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AD4-FD58-4273-A88A-EF5E7DCB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F17C-A136-4283-ADB4-7BBA9B0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FA83-C690-46C3-A650-A6552F1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37B-ABBA-4071-8EAE-1172C98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3B6E-A202-42EA-B1A9-BAA33D2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424C-FA4A-49CA-8AC5-B94B238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4D5-AA22-4947-9C21-963F4A7F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7F9A-0B48-4135-AD7A-A3561AA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2D63-683A-4D23-9F4E-16EDD68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434C-E08E-4033-8F78-442F72A0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348B-424B-4E3B-BF67-EA1EFECD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528-D829-487B-B997-05F6329E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C9BB-052E-4F1A-84FC-F8A00D51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281-57CA-4B4B-9614-1445E529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B49-0E67-4ABE-87C8-8B6EE0F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D5A-E724-4EA5-B86F-5F6DABA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401-0F70-41EA-9833-D146D936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A5A-43BB-499C-AD92-EC54CE1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840-5095-4BA1-81E4-D789190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B10-E91C-4FF9-AB58-8B950282C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npo000001"/>
          <p:cNvPicPr/>
          <p:nvPr/>
        </p:nvPicPr>
        <p:blipFill>
          <a:blip r:embed="rId2"/>
          <a:stretch/>
        </p:blipFill>
        <p:spPr>
          <a:xfrm>
            <a:off x="79200" y="50760"/>
            <a:ext cx="455760" cy="45576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7229520" y="-6480"/>
            <a:ext cx="1844280" cy="361800"/>
            <a:chOff x="7229520" y="-6480"/>
            <a:chExt cx="1844280" cy="361800"/>
          </a:xfrm>
        </p:grpSpPr>
        <p:sp>
          <p:nvSpPr>
            <p:cNvPr id="7" name="Text Box 7"/>
            <p:cNvSpPr/>
            <p:nvPr/>
          </p:nvSpPr>
          <p:spPr>
            <a:xfrm>
              <a:off x="722952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10"/>
            <p:cNvSpPr/>
            <p:nvPr/>
          </p:nvSpPr>
          <p:spPr>
            <a:xfrm>
              <a:off x="773928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8"/>
          <p:cNvGrpSpPr/>
          <p:nvPr/>
        </p:nvGrpSpPr>
        <p:grpSpPr>
          <a:xfrm>
            <a:off x="33480" y="6510240"/>
            <a:ext cx="1844280" cy="361800"/>
            <a:chOff x="33480" y="6510240"/>
            <a:chExt cx="1844280" cy="361800"/>
          </a:xfrm>
        </p:grpSpPr>
        <p:sp>
          <p:nvSpPr>
            <p:cNvPr id="10" name="Text Box 7"/>
            <p:cNvSpPr/>
            <p:nvPr/>
          </p:nvSpPr>
          <p:spPr>
            <a:xfrm>
              <a:off x="3348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10"/>
            <p:cNvSpPr/>
            <p:nvPr/>
          </p:nvSpPr>
          <p:spPr>
            <a:xfrm>
              <a:off x="54324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po000001"/>
          <p:cNvPicPr/>
          <p:nvPr/>
        </p:nvPicPr>
        <p:blipFill>
          <a:blip r:embed="rId2"/>
          <a:stretch/>
        </p:blipFill>
        <p:spPr>
          <a:xfrm>
            <a:off x="79200" y="50760"/>
            <a:ext cx="455760" cy="4557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2"/>
          <p:cNvGrpSpPr/>
          <p:nvPr/>
        </p:nvGrpSpPr>
        <p:grpSpPr>
          <a:xfrm>
            <a:off x="7229520" y="-6480"/>
            <a:ext cx="1844280" cy="361800"/>
            <a:chOff x="7229520" y="-6480"/>
            <a:chExt cx="1844280" cy="361800"/>
          </a:xfrm>
        </p:grpSpPr>
        <p:sp>
          <p:nvSpPr>
            <p:cNvPr id="50" name="Text Box 7"/>
            <p:cNvSpPr/>
            <p:nvPr/>
          </p:nvSpPr>
          <p:spPr>
            <a:xfrm>
              <a:off x="722952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73928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33480" y="6510240"/>
            <a:ext cx="1844280" cy="361800"/>
            <a:chOff x="33480" y="6510240"/>
            <a:chExt cx="1844280" cy="361800"/>
          </a:xfrm>
        </p:grpSpPr>
        <p:sp>
          <p:nvSpPr>
            <p:cNvPr id="53" name="Text Box 7"/>
            <p:cNvSpPr/>
            <p:nvPr/>
          </p:nvSpPr>
          <p:spPr>
            <a:xfrm>
              <a:off x="3348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54324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3" descr="DSC_0069.JPG"/>
          <p:cNvPicPr/>
          <p:nvPr/>
        </p:nvPicPr>
        <p:blipFill>
          <a:blip r:embed="rId3"/>
          <a:srcRect l="3610" t="0" r="9803" b="0"/>
          <a:stretch/>
        </p:blipFill>
        <p:spPr>
          <a:xfrm>
            <a:off x="0" y="-1440"/>
            <a:ext cx="9144000" cy="70880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2"/>
          <p:cNvGrpSpPr/>
          <p:nvPr/>
        </p:nvGrpSpPr>
        <p:grpSpPr>
          <a:xfrm>
            <a:off x="7262640" y="-6480"/>
            <a:ext cx="1734840" cy="361800"/>
            <a:chOff x="7262640" y="-6480"/>
            <a:chExt cx="1734840" cy="361800"/>
          </a:xfrm>
        </p:grpSpPr>
        <p:sp>
          <p:nvSpPr>
            <p:cNvPr id="57" name="Text Box 7"/>
            <p:cNvSpPr/>
            <p:nvPr/>
          </p:nvSpPr>
          <p:spPr>
            <a:xfrm>
              <a:off x="726264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66296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79646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66600" y="6510240"/>
            <a:ext cx="1734840" cy="361800"/>
            <a:chOff x="66600" y="6510240"/>
            <a:chExt cx="1734840" cy="361800"/>
          </a:xfrm>
        </p:grpSpPr>
        <p:sp>
          <p:nvSpPr>
            <p:cNvPr id="60" name="Text Box 7"/>
            <p:cNvSpPr/>
            <p:nvPr/>
          </p:nvSpPr>
          <p:spPr>
            <a:xfrm>
              <a:off x="6660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46692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945-FF7C-4B81-9123-9C7C391F9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d636"/>
                </a:solidFill>
                <a:latin typeface="Calibri"/>
              </a:rPr>
              <a:t>TRADOC Core Competency Assess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d9f1"/>
                </a:solidFill>
                <a:latin typeface="Arial"/>
              </a:rPr>
              <a:t>TRADOC, DCS G-3/5/7</a:t>
            </a:r>
            <a:br>
              <a:rPr sz="3200"/>
            </a:br>
            <a:r>
              <a:rPr b="1" lang="en-US" sz="3200" spc="-1" strike="noStrike">
                <a:solidFill>
                  <a:srgbClr val="c6d9f1"/>
                </a:solidFill>
                <a:latin typeface="Arial"/>
              </a:rPr>
              <a:t>(16 Feb 1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91880"/>
            <a:ext cx="7010640" cy="609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OC Core Competency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F: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jor and Captain shortag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ostly KD) throughout TRADOC formations jeopardize TRADOC’s Core Competencies now and in the near fu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9/11, TRADOC’s workload and personnel fill are in tension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OC daily average Training workloa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creased 27K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pproximat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s and Combat Development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quirements increa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itary authorization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ined 7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 Civilian authorization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ined 4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or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creased 9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-Greening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mid-grade leadership, instructors and analyst coupled wit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ractor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 erode Core Competencies’ found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maintain current readiness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DOC Nee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ADOS-AC funding to man 380 critical military posi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Retiree Reca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Overseas Contingency Operations (OCO) fund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y resource all TR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 or decrease WIAS task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 the right officer into the right position to at least 75% of officer authoriz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mprove readiness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DOC Desi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% officer fill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9% officer and enlisted distribution accuracy (right soldier in right posi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5"/>
          <p:cNvSpPr/>
          <p:nvPr/>
        </p:nvSpPr>
        <p:spPr>
          <a:xfrm>
            <a:off x="1170000" y="222120"/>
            <a:ext cx="673236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rosion of TRADOC’s Core Competencies/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2"/>
          <p:cNvSpPr/>
          <p:nvPr/>
        </p:nvSpPr>
        <p:spPr>
          <a:xfrm rot="321000">
            <a:off x="7862400" y="4089240"/>
            <a:ext cx="11001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reased Instructor/Student Rat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3"/>
          <p:cNvSpPr/>
          <p:nvPr/>
        </p:nvSpPr>
        <p:spPr>
          <a:xfrm rot="1116600">
            <a:off x="6509880" y="5599080"/>
            <a:ext cx="763560" cy="3351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quisition Del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1"/>
          <p:cNvSpPr/>
          <p:nvPr/>
        </p:nvSpPr>
        <p:spPr>
          <a:xfrm rot="21043200">
            <a:off x="6582960" y="4192560"/>
            <a:ext cx="765360" cy="44460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ssons Learned Officer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4"/>
          <p:cNvSpPr/>
          <p:nvPr/>
        </p:nvSpPr>
        <p:spPr>
          <a:xfrm>
            <a:off x="5943600" y="6324480"/>
            <a:ext cx="901800" cy="3668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SBCT Courses Eli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7"/>
          <p:cNvSpPr/>
          <p:nvPr/>
        </p:nvSpPr>
        <p:spPr>
          <a:xfrm rot="20878200">
            <a:off x="8211600" y="5632200"/>
            <a:ext cx="81468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RTC:45% CPT / MAJ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8"/>
          <p:cNvSpPr/>
          <p:nvPr/>
        </p:nvSpPr>
        <p:spPr>
          <a:xfrm rot="21228600">
            <a:off x="4816440" y="6473520"/>
            <a:ext cx="97308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 Functional Courses  Redu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2"/>
          <p:cNvSpPr/>
          <p:nvPr/>
        </p:nvSpPr>
        <p:spPr>
          <a:xfrm rot="20868000">
            <a:off x="6198840" y="5933880"/>
            <a:ext cx="67320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%  Mil ILE In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3"/>
          <p:cNvSpPr/>
          <p:nvPr/>
        </p:nvSpPr>
        <p:spPr>
          <a:xfrm rot="20491200">
            <a:off x="5441760" y="5989320"/>
            <a:ext cx="82548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9% Fill Doctrine D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4"/>
          <p:cNvSpPr/>
          <p:nvPr/>
        </p:nvSpPr>
        <p:spPr>
          <a:xfrm rot="722400">
            <a:off x="7264080" y="6033960"/>
            <a:ext cx="90324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TC short 100 CP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5"/>
          <p:cNvSpPr/>
          <p:nvPr/>
        </p:nvSpPr>
        <p:spPr>
          <a:xfrm rot="21235200">
            <a:off x="6040440" y="4686120"/>
            <a:ext cx="749160" cy="42192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TS Requires 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6"/>
          <p:cNvSpPr/>
          <p:nvPr/>
        </p:nvSpPr>
        <p:spPr>
          <a:xfrm>
            <a:off x="7238880" y="5562720"/>
            <a:ext cx="8985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eens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SA Ero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loud 151"/>
          <p:cNvSpPr/>
          <p:nvPr/>
        </p:nvSpPr>
        <p:spPr>
          <a:xfrm>
            <a:off x="1981080" y="1143000"/>
            <a:ext cx="190512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 152"/>
          <p:cNvSpPr/>
          <p:nvPr/>
        </p:nvSpPr>
        <p:spPr>
          <a:xfrm>
            <a:off x="228600" y="1981080"/>
            <a:ext cx="1905120" cy="8384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MEDCOM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 155"/>
          <p:cNvSpPr/>
          <p:nvPr/>
        </p:nvSpPr>
        <p:spPr>
          <a:xfrm>
            <a:off x="4648320" y="1981080"/>
            <a:ext cx="190476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A 10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156"/>
          <p:cNvSpPr/>
          <p:nvPr/>
        </p:nvSpPr>
        <p:spPr>
          <a:xfrm>
            <a:off x="3962520" y="838080"/>
            <a:ext cx="190476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 157"/>
          <p:cNvSpPr/>
          <p:nvPr/>
        </p:nvSpPr>
        <p:spPr>
          <a:xfrm>
            <a:off x="228600" y="838080"/>
            <a:ext cx="1905120" cy="7621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IMCOM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 rot="391800">
            <a:off x="3641400" y="2643120"/>
            <a:ext cx="1739880" cy="9730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 flipH="1" rot="20838600">
            <a:off x="1459440" y="2679480"/>
            <a:ext cx="1758960" cy="9730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sosceles Triangle 17"/>
          <p:cNvSpPr/>
          <p:nvPr/>
        </p:nvSpPr>
        <p:spPr>
          <a:xfrm>
            <a:off x="2556000" y="1596960"/>
            <a:ext cx="1757160" cy="97308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6"/>
          <p:cNvSpPr/>
          <p:nvPr/>
        </p:nvSpPr>
        <p:spPr>
          <a:xfrm>
            <a:off x="3008160" y="20541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inate F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0"/>
          <p:cNvGrpSpPr/>
          <p:nvPr/>
        </p:nvGrpSpPr>
        <p:grpSpPr>
          <a:xfrm>
            <a:off x="36000" y="4392000"/>
            <a:ext cx="1941120" cy="1315800"/>
            <a:chOff x="36000" y="4392000"/>
            <a:chExt cx="1941120" cy="1315800"/>
          </a:xfrm>
        </p:grpSpPr>
        <p:sp>
          <p:nvSpPr>
            <p:cNvPr id="178" name="Freeform 19"/>
            <p:cNvSpPr/>
            <p:nvPr/>
          </p:nvSpPr>
          <p:spPr>
            <a:xfrm flipH="1" rot="21357000">
              <a:off x="75600" y="4456080"/>
              <a:ext cx="1861920" cy="1187280"/>
            </a:xfrm>
            <a:custGeom>
              <a:avLst/>
              <a:gdLst/>
              <a:ahLst/>
              <a:rect l="l" t="t" r="r" b="b"/>
              <a:pathLst>
                <a:path w="781050" h="457200">
                  <a:moveTo>
                    <a:pt x="0" y="0"/>
                  </a:moveTo>
                  <a:lnTo>
                    <a:pt x="0" y="457200"/>
                  </a:lnTo>
                  <a:lnTo>
                    <a:pt x="781050" y="457200"/>
                  </a:lnTo>
                  <a:lnTo>
                    <a:pt x="3905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c4bd9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48"/>
            <p:cNvGrpSpPr/>
            <p:nvPr/>
          </p:nvGrpSpPr>
          <p:grpSpPr>
            <a:xfrm>
              <a:off x="1038600" y="5005440"/>
              <a:ext cx="761760" cy="657360"/>
              <a:chOff x="1038600" y="5005440"/>
              <a:chExt cx="761760" cy="657360"/>
            </a:xfrm>
          </p:grpSpPr>
          <p:sp>
            <p:nvSpPr>
              <p:cNvPr id="180" name="Freeform 41"/>
              <p:cNvSpPr/>
              <p:nvPr/>
            </p:nvSpPr>
            <p:spPr>
              <a:xfrm rot="20836200">
                <a:off x="1049040" y="5264640"/>
                <a:ext cx="369720" cy="136440"/>
              </a:xfrm>
              <a:custGeom>
                <a:avLst/>
                <a:gdLst/>
                <a:ahLst/>
                <a:rect l="l" t="t" r="r" b="b"/>
                <a:pathLst>
                  <a:path w="415636" h="141317">
                    <a:moveTo>
                      <a:pt x="0" y="0"/>
                    </a:moveTo>
                    <a:lnTo>
                      <a:pt x="0" y="0"/>
                    </a:lnTo>
                    <a:cubicBezTo>
                      <a:pt x="22167" y="11084"/>
                      <a:pt x="43940" y="22995"/>
                      <a:pt x="66502" y="33251"/>
                    </a:cubicBezTo>
                    <a:cubicBezTo>
                      <a:pt x="74479" y="36877"/>
                      <a:pt x="84430" y="36307"/>
                      <a:pt x="91440" y="41564"/>
                    </a:cubicBezTo>
                    <a:cubicBezTo>
                      <a:pt x="96397" y="45281"/>
                      <a:pt x="96981" y="52647"/>
                      <a:pt x="99752" y="58189"/>
                    </a:cubicBezTo>
                    <a:lnTo>
                      <a:pt x="174567" y="8313"/>
                    </a:lnTo>
                    <a:lnTo>
                      <a:pt x="207818" y="41564"/>
                    </a:lnTo>
                    <a:lnTo>
                      <a:pt x="224443" y="99753"/>
                    </a:lnTo>
                    <a:lnTo>
                      <a:pt x="282632" y="91440"/>
                    </a:lnTo>
                    <a:lnTo>
                      <a:pt x="332509" y="141317"/>
                    </a:lnTo>
                    <a:lnTo>
                      <a:pt x="415636" y="133004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2"/>
              <p:cNvSpPr/>
              <p:nvPr/>
            </p:nvSpPr>
            <p:spPr>
              <a:xfrm rot="19293000">
                <a:off x="1035000" y="5265720"/>
                <a:ext cx="533160" cy="129240"/>
              </a:xfrm>
              <a:custGeom>
                <a:avLst/>
                <a:gdLst/>
                <a:ahLst/>
                <a:rect l="l" t="t" r="r" b="b"/>
                <a:pathLst>
                  <a:path w="598516" h="133004">
                    <a:moveTo>
                      <a:pt x="0" y="58189"/>
                    </a:moveTo>
                    <a:lnTo>
                      <a:pt x="108065" y="49876"/>
                    </a:lnTo>
                    <a:lnTo>
                      <a:pt x="99752" y="0"/>
                    </a:lnTo>
                    <a:lnTo>
                      <a:pt x="207818" y="33251"/>
                    </a:lnTo>
                    <a:lnTo>
                      <a:pt x="257694" y="83127"/>
                    </a:lnTo>
                    <a:lnTo>
                      <a:pt x="282632" y="58189"/>
                    </a:lnTo>
                    <a:lnTo>
                      <a:pt x="324196" y="16625"/>
                    </a:lnTo>
                    <a:lnTo>
                      <a:pt x="382385" y="49876"/>
                    </a:lnTo>
                    <a:lnTo>
                      <a:pt x="407323" y="133004"/>
                    </a:lnTo>
                    <a:lnTo>
                      <a:pt x="490450" y="116378"/>
                    </a:lnTo>
                    <a:lnTo>
                      <a:pt x="490450" y="66502"/>
                    </a:lnTo>
                    <a:lnTo>
                      <a:pt x="598516" y="33251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3"/>
              <p:cNvSpPr/>
              <p:nvPr/>
            </p:nvSpPr>
            <p:spPr>
              <a:xfrm rot="14541000">
                <a:off x="1066680" y="5295240"/>
                <a:ext cx="591840" cy="119520"/>
              </a:xfrm>
              <a:custGeom>
                <a:avLst/>
                <a:gdLst/>
                <a:ahLst/>
                <a:rect l="l" t="t" r="r" b="b"/>
                <a:pathLst>
                  <a:path w="598516" h="133004">
                    <a:moveTo>
                      <a:pt x="0" y="58189"/>
                    </a:moveTo>
                    <a:lnTo>
                      <a:pt x="108065" y="49876"/>
                    </a:lnTo>
                    <a:lnTo>
                      <a:pt x="99752" y="0"/>
                    </a:lnTo>
                    <a:lnTo>
                      <a:pt x="207818" y="33251"/>
                    </a:lnTo>
                    <a:lnTo>
                      <a:pt x="257694" y="83127"/>
                    </a:lnTo>
                    <a:lnTo>
                      <a:pt x="282632" y="58189"/>
                    </a:lnTo>
                    <a:lnTo>
                      <a:pt x="324196" y="16625"/>
                    </a:lnTo>
                    <a:lnTo>
                      <a:pt x="382385" y="49876"/>
                    </a:lnTo>
                    <a:lnTo>
                      <a:pt x="407323" y="133004"/>
                    </a:lnTo>
                    <a:lnTo>
                      <a:pt x="490450" y="116378"/>
                    </a:lnTo>
                    <a:lnTo>
                      <a:pt x="490450" y="66502"/>
                    </a:lnTo>
                    <a:lnTo>
                      <a:pt x="598516" y="33251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5"/>
              <p:cNvSpPr/>
              <p:nvPr/>
            </p:nvSpPr>
            <p:spPr>
              <a:xfrm rot="20836200">
                <a:off x="1146960" y="5518080"/>
                <a:ext cx="357840" cy="106200"/>
              </a:xfrm>
              <a:custGeom>
                <a:avLst/>
                <a:gdLst/>
                <a:ahLst/>
                <a:rect l="l" t="t" r="r" b="b"/>
                <a:pathLst>
                  <a:path w="403412" h="107576">
                    <a:moveTo>
                      <a:pt x="0" y="53788"/>
                    </a:moveTo>
                    <a:cubicBezTo>
                      <a:pt x="8965" y="47812"/>
                      <a:pt x="16992" y="40103"/>
                      <a:pt x="26895" y="35859"/>
                    </a:cubicBezTo>
                    <a:cubicBezTo>
                      <a:pt x="38219" y="31006"/>
                      <a:pt x="51733" y="32404"/>
                      <a:pt x="62753" y="26894"/>
                    </a:cubicBezTo>
                    <a:cubicBezTo>
                      <a:pt x="70313" y="23114"/>
                      <a:pt x="73435" y="13313"/>
                      <a:pt x="80683" y="8965"/>
                    </a:cubicBezTo>
                    <a:cubicBezTo>
                      <a:pt x="88786" y="4103"/>
                      <a:pt x="98612" y="2988"/>
                      <a:pt x="107577" y="0"/>
                    </a:cubicBezTo>
                    <a:cubicBezTo>
                      <a:pt x="116542" y="5976"/>
                      <a:pt x="128495" y="8964"/>
                      <a:pt x="134471" y="17929"/>
                    </a:cubicBezTo>
                    <a:cubicBezTo>
                      <a:pt x="141305" y="28181"/>
                      <a:pt x="132988" y="47258"/>
                      <a:pt x="143436" y="53788"/>
                    </a:cubicBezTo>
                    <a:cubicBezTo>
                      <a:pt x="161354" y="64987"/>
                      <a:pt x="185271" y="59765"/>
                      <a:pt x="206189" y="62753"/>
                    </a:cubicBezTo>
                    <a:cubicBezTo>
                      <a:pt x="215154" y="59765"/>
                      <a:pt x="223633" y="53788"/>
                      <a:pt x="233083" y="53788"/>
                    </a:cubicBezTo>
                    <a:cubicBezTo>
                      <a:pt x="268672" y="53788"/>
                      <a:pt x="257766" y="73478"/>
                      <a:pt x="286871" y="89647"/>
                    </a:cubicBezTo>
                    <a:cubicBezTo>
                      <a:pt x="303392" y="98825"/>
                      <a:pt x="340659" y="107576"/>
                      <a:pt x="340659" y="107576"/>
                    </a:cubicBezTo>
                    <a:cubicBezTo>
                      <a:pt x="390208" y="58028"/>
                      <a:pt x="366584" y="72203"/>
                      <a:pt x="403412" y="53788"/>
                    </a:cubicBez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6"/>
              <p:cNvSpPr/>
              <p:nvPr/>
            </p:nvSpPr>
            <p:spPr>
              <a:xfrm rot="20836200">
                <a:off x="1336320" y="5044320"/>
                <a:ext cx="368280" cy="139680"/>
              </a:xfrm>
              <a:custGeom>
                <a:avLst/>
                <a:gdLst/>
                <a:ahLst/>
                <a:rect l="l" t="t" r="r" b="b"/>
                <a:pathLst>
                  <a:path w="415636" h="141317">
                    <a:moveTo>
                      <a:pt x="0" y="0"/>
                    </a:moveTo>
                    <a:lnTo>
                      <a:pt x="0" y="0"/>
                    </a:lnTo>
                    <a:cubicBezTo>
                      <a:pt x="22167" y="11084"/>
                      <a:pt x="43940" y="22995"/>
                      <a:pt x="66502" y="33251"/>
                    </a:cubicBezTo>
                    <a:cubicBezTo>
                      <a:pt x="74479" y="36877"/>
                      <a:pt x="84430" y="36307"/>
                      <a:pt x="91440" y="41564"/>
                    </a:cubicBezTo>
                    <a:cubicBezTo>
                      <a:pt x="96397" y="45281"/>
                      <a:pt x="96981" y="52647"/>
                      <a:pt x="99752" y="58189"/>
                    </a:cubicBezTo>
                    <a:lnTo>
                      <a:pt x="174567" y="8313"/>
                    </a:lnTo>
                    <a:lnTo>
                      <a:pt x="207818" y="41564"/>
                    </a:lnTo>
                    <a:lnTo>
                      <a:pt x="224443" y="99753"/>
                    </a:lnTo>
                    <a:lnTo>
                      <a:pt x="282632" y="91440"/>
                    </a:lnTo>
                    <a:lnTo>
                      <a:pt x="332509" y="141317"/>
                    </a:lnTo>
                    <a:lnTo>
                      <a:pt x="415636" y="133004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9"/>
              <p:cNvSpPr/>
              <p:nvPr/>
            </p:nvSpPr>
            <p:spPr>
              <a:xfrm rot="20836200">
                <a:off x="1432440" y="5298120"/>
                <a:ext cx="360360" cy="107640"/>
              </a:xfrm>
              <a:custGeom>
                <a:avLst/>
                <a:gdLst/>
                <a:ahLst/>
                <a:rect l="l" t="t" r="r" b="b"/>
                <a:pathLst>
                  <a:path w="403412" h="107576">
                    <a:moveTo>
                      <a:pt x="0" y="53788"/>
                    </a:moveTo>
                    <a:cubicBezTo>
                      <a:pt x="8965" y="47812"/>
                      <a:pt x="16992" y="40103"/>
                      <a:pt x="26895" y="35859"/>
                    </a:cubicBezTo>
                    <a:cubicBezTo>
                      <a:pt x="38219" y="31006"/>
                      <a:pt x="51733" y="32404"/>
                      <a:pt x="62753" y="26894"/>
                    </a:cubicBezTo>
                    <a:cubicBezTo>
                      <a:pt x="70313" y="23114"/>
                      <a:pt x="73435" y="13313"/>
                      <a:pt x="80683" y="8965"/>
                    </a:cubicBezTo>
                    <a:cubicBezTo>
                      <a:pt x="88786" y="4103"/>
                      <a:pt x="98612" y="2988"/>
                      <a:pt x="107577" y="0"/>
                    </a:cubicBezTo>
                    <a:cubicBezTo>
                      <a:pt x="116542" y="5976"/>
                      <a:pt x="128495" y="8964"/>
                      <a:pt x="134471" y="17929"/>
                    </a:cubicBezTo>
                    <a:cubicBezTo>
                      <a:pt x="141305" y="28181"/>
                      <a:pt x="132988" y="47258"/>
                      <a:pt x="143436" y="53788"/>
                    </a:cubicBezTo>
                    <a:cubicBezTo>
                      <a:pt x="161354" y="64987"/>
                      <a:pt x="185271" y="59765"/>
                      <a:pt x="206189" y="62753"/>
                    </a:cubicBezTo>
                    <a:cubicBezTo>
                      <a:pt x="215154" y="59765"/>
                      <a:pt x="223633" y="53788"/>
                      <a:pt x="233083" y="53788"/>
                    </a:cubicBezTo>
                    <a:cubicBezTo>
                      <a:pt x="268672" y="53788"/>
                      <a:pt x="257766" y="73478"/>
                      <a:pt x="286871" y="89647"/>
                    </a:cubicBezTo>
                    <a:cubicBezTo>
                      <a:pt x="303392" y="98825"/>
                      <a:pt x="340659" y="107576"/>
                      <a:pt x="340659" y="107576"/>
                    </a:cubicBezTo>
                    <a:cubicBezTo>
                      <a:pt x="390208" y="58028"/>
                      <a:pt x="366584" y="72203"/>
                      <a:pt x="403412" y="53788"/>
                    </a:cubicBez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tangle 94"/>
          <p:cNvSpPr/>
          <p:nvPr/>
        </p:nvSpPr>
        <p:spPr>
          <a:xfrm rot="21058800">
            <a:off x="540000" y="48387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-G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9"/>
          <p:cNvSpPr/>
          <p:nvPr/>
        </p:nvSpPr>
        <p:spPr>
          <a:xfrm rot="501600">
            <a:off x="3058920" y="2642760"/>
            <a:ext cx="947520" cy="9730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5"/>
          <p:cNvSpPr/>
          <p:nvPr/>
        </p:nvSpPr>
        <p:spPr>
          <a:xfrm>
            <a:off x="4167720" y="2922480"/>
            <a:ext cx="7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0"/>
          <p:cNvSpPr/>
          <p:nvPr/>
        </p:nvSpPr>
        <p:spPr>
          <a:xfrm>
            <a:off x="2058840" y="2782800"/>
            <a:ext cx="9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&amp; Integrate Capa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0"/>
          <p:cNvSpPr/>
          <p:nvPr/>
        </p:nvSpPr>
        <p:spPr>
          <a:xfrm>
            <a:off x="3127320" y="2782800"/>
            <a:ext cx="9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R Lif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6"/>
          <p:cNvSpPr/>
          <p:nvPr/>
        </p:nvSpPr>
        <p:spPr>
          <a:xfrm>
            <a:off x="3394080" y="361620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0"/>
          <p:cNvSpPr/>
          <p:nvPr/>
        </p:nvSpPr>
        <p:spPr>
          <a:xfrm rot="16200000">
            <a:off x="3386520" y="396468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9"/>
          <p:cNvSpPr/>
          <p:nvPr/>
        </p:nvSpPr>
        <p:spPr>
          <a:xfrm rot="20593200">
            <a:off x="836280" y="3615840"/>
            <a:ext cx="1214280" cy="881280"/>
          </a:xfrm>
          <a:custGeom>
            <a:avLst/>
            <a:gdLst/>
            <a:ahLst/>
            <a:rect l="l" t="t" r="r" b="b"/>
            <a:pathLst>
              <a:path w="1263534" h="839585">
                <a:moveTo>
                  <a:pt x="806334" y="8312"/>
                </a:moveTo>
                <a:lnTo>
                  <a:pt x="1255221" y="0"/>
                </a:lnTo>
                <a:lnTo>
                  <a:pt x="1263534" y="814647"/>
                </a:lnTo>
                <a:lnTo>
                  <a:pt x="0" y="839585"/>
                </a:lnTo>
                <a:lnTo>
                  <a:pt x="806334" y="8312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2"/>
          <p:cNvSpPr/>
          <p:nvPr/>
        </p:nvSpPr>
        <p:spPr>
          <a:xfrm rot="15193200">
            <a:off x="1223640" y="37900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7"/>
          <p:cNvSpPr/>
          <p:nvPr/>
        </p:nvSpPr>
        <p:spPr>
          <a:xfrm rot="20877000">
            <a:off x="3841920" y="3615840"/>
            <a:ext cx="4395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7"/>
          <p:cNvSpPr/>
          <p:nvPr/>
        </p:nvSpPr>
        <p:spPr>
          <a:xfrm rot="15477000">
            <a:off x="3746520" y="387900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ss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ar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8"/>
          <p:cNvSpPr/>
          <p:nvPr/>
        </p:nvSpPr>
        <p:spPr>
          <a:xfrm rot="20889600">
            <a:off x="4287960" y="361620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8"/>
          <p:cNvSpPr/>
          <p:nvPr/>
        </p:nvSpPr>
        <p:spPr>
          <a:xfrm rot="15489600">
            <a:off x="4151880" y="389340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1"/>
          <p:cNvSpPr/>
          <p:nvPr/>
        </p:nvSpPr>
        <p:spPr>
          <a:xfrm rot="755400">
            <a:off x="2053800" y="3615840"/>
            <a:ext cx="43992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2"/>
          <p:cNvSpPr/>
          <p:nvPr/>
        </p:nvSpPr>
        <p:spPr>
          <a:xfrm rot="16955400">
            <a:off x="1885680" y="3903840"/>
            <a:ext cx="7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bi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4"/>
          <p:cNvSpPr/>
          <p:nvPr/>
        </p:nvSpPr>
        <p:spPr>
          <a:xfrm rot="483000">
            <a:off x="2499840" y="361584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2"/>
          <p:cNvSpPr/>
          <p:nvPr/>
        </p:nvSpPr>
        <p:spPr>
          <a:xfrm rot="16683000">
            <a:off x="2152080" y="391644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50"/>
          <p:cNvSpPr/>
          <p:nvPr/>
        </p:nvSpPr>
        <p:spPr>
          <a:xfrm flipH="1" rot="20777400">
            <a:off x="4726800" y="3614760"/>
            <a:ext cx="1214640" cy="882720"/>
          </a:xfrm>
          <a:custGeom>
            <a:avLst/>
            <a:gdLst/>
            <a:ahLst/>
            <a:rect l="l" t="t" r="r" b="b"/>
            <a:pathLst>
              <a:path w="1263534" h="839585">
                <a:moveTo>
                  <a:pt x="806334" y="8312"/>
                </a:moveTo>
                <a:lnTo>
                  <a:pt x="1255221" y="0"/>
                </a:lnTo>
                <a:lnTo>
                  <a:pt x="1263534" y="814647"/>
                </a:lnTo>
                <a:lnTo>
                  <a:pt x="0" y="839585"/>
                </a:lnTo>
                <a:lnTo>
                  <a:pt x="806334" y="8312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2"/>
          <p:cNvSpPr/>
          <p:nvPr/>
        </p:nvSpPr>
        <p:spPr>
          <a:xfrm rot="16030800">
            <a:off x="4557600" y="3954600"/>
            <a:ext cx="9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5"/>
          <p:cNvSpPr/>
          <p:nvPr/>
        </p:nvSpPr>
        <p:spPr>
          <a:xfrm rot="20843400">
            <a:off x="2947680" y="3616200"/>
            <a:ext cx="4395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3"/>
          <p:cNvSpPr/>
          <p:nvPr/>
        </p:nvSpPr>
        <p:spPr>
          <a:xfrm rot="15443400">
            <a:off x="2884320" y="393804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c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5"/>
          <p:cNvSpPr/>
          <p:nvPr/>
        </p:nvSpPr>
        <p:spPr>
          <a:xfrm rot="21323400">
            <a:off x="1807920" y="4605480"/>
            <a:ext cx="1714320" cy="96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9"/>
          <p:cNvSpPr/>
          <p:nvPr/>
        </p:nvSpPr>
        <p:spPr>
          <a:xfrm rot="6168000">
            <a:off x="3987000" y="2603520"/>
            <a:ext cx="412920" cy="3078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1"/>
          <p:cNvSpPr/>
          <p:nvPr/>
        </p:nvSpPr>
        <p:spPr>
          <a:xfrm rot="12462000">
            <a:off x="2862000" y="3050280"/>
            <a:ext cx="261720" cy="11772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53"/>
          <p:cNvGrpSpPr/>
          <p:nvPr/>
        </p:nvGrpSpPr>
        <p:grpSpPr>
          <a:xfrm>
            <a:off x="1918080" y="5155200"/>
            <a:ext cx="271440" cy="371520"/>
            <a:chOff x="1918080" y="5155200"/>
            <a:chExt cx="271440" cy="371520"/>
          </a:xfrm>
        </p:grpSpPr>
        <p:sp>
          <p:nvSpPr>
            <p:cNvPr id="211" name="Freeform 48"/>
            <p:cNvSpPr/>
            <p:nvPr/>
          </p:nvSpPr>
          <p:spPr>
            <a:xfrm rot="10919400">
              <a:off x="2024640" y="5342040"/>
              <a:ext cx="151200" cy="820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0"/>
            <p:cNvSpPr/>
            <p:nvPr/>
          </p:nvSpPr>
          <p:spPr>
            <a:xfrm rot="12462000">
              <a:off x="2077920" y="5222160"/>
              <a:ext cx="101520" cy="6768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 rot="6168000">
              <a:off x="1788840" y="5324040"/>
              <a:ext cx="373320" cy="334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95"/>
          <p:cNvSpPr/>
          <p:nvPr/>
        </p:nvSpPr>
        <p:spPr>
          <a:xfrm rot="21213000">
            <a:off x="1939320" y="481140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ntra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4"/>
          <p:cNvSpPr/>
          <p:nvPr/>
        </p:nvSpPr>
        <p:spPr>
          <a:xfrm rot="181200">
            <a:off x="3160440" y="4606920"/>
            <a:ext cx="1698480" cy="103500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8"/>
          <p:cNvGrpSpPr/>
          <p:nvPr/>
        </p:nvGrpSpPr>
        <p:grpSpPr>
          <a:xfrm>
            <a:off x="3205800" y="5203080"/>
            <a:ext cx="562680" cy="382680"/>
            <a:chOff x="3205800" y="5203080"/>
            <a:chExt cx="562680" cy="382680"/>
          </a:xfrm>
        </p:grpSpPr>
        <p:sp>
          <p:nvSpPr>
            <p:cNvPr id="217" name="Freeform 70"/>
            <p:cNvSpPr/>
            <p:nvPr/>
          </p:nvSpPr>
          <p:spPr>
            <a:xfrm rot="2073000">
              <a:off x="3268800" y="5273280"/>
              <a:ext cx="211680" cy="8100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1"/>
            <p:cNvSpPr/>
            <p:nvPr/>
          </p:nvSpPr>
          <p:spPr>
            <a:xfrm rot="529800">
              <a:off x="3249000" y="5303160"/>
              <a:ext cx="307080" cy="76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2"/>
            <p:cNvSpPr/>
            <p:nvPr/>
          </p:nvSpPr>
          <p:spPr>
            <a:xfrm rot="17377800">
              <a:off x="3242880" y="5344200"/>
              <a:ext cx="348480" cy="6876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3"/>
            <p:cNvSpPr/>
            <p:nvPr/>
          </p:nvSpPr>
          <p:spPr>
            <a:xfrm rot="2073000">
              <a:off x="3205440" y="5418360"/>
              <a:ext cx="206280" cy="6264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4"/>
            <p:cNvSpPr/>
            <p:nvPr/>
          </p:nvSpPr>
          <p:spPr>
            <a:xfrm rot="2073000">
              <a:off x="3475800" y="5306040"/>
              <a:ext cx="213840" cy="8280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5"/>
            <p:cNvSpPr/>
            <p:nvPr/>
          </p:nvSpPr>
          <p:spPr>
            <a:xfrm rot="529800">
              <a:off x="3457080" y="5336280"/>
              <a:ext cx="307080" cy="76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6"/>
            <p:cNvSpPr/>
            <p:nvPr/>
          </p:nvSpPr>
          <p:spPr>
            <a:xfrm rot="17377800">
              <a:off x="3446280" y="5376960"/>
              <a:ext cx="347400" cy="67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7"/>
            <p:cNvSpPr/>
            <p:nvPr/>
          </p:nvSpPr>
          <p:spPr>
            <a:xfrm rot="2073000">
              <a:off x="3410640" y="5450040"/>
              <a:ext cx="207000" cy="6480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reeform 22"/>
          <p:cNvSpPr/>
          <p:nvPr/>
        </p:nvSpPr>
        <p:spPr>
          <a:xfrm rot="360600">
            <a:off x="4755960" y="4566960"/>
            <a:ext cx="1757160" cy="11206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8"/>
          <p:cNvGrpSpPr/>
          <p:nvPr/>
        </p:nvGrpSpPr>
        <p:grpSpPr>
          <a:xfrm>
            <a:off x="4761720" y="4552200"/>
            <a:ext cx="708120" cy="556200"/>
            <a:chOff x="4761720" y="4552200"/>
            <a:chExt cx="708120" cy="556200"/>
          </a:xfrm>
        </p:grpSpPr>
        <p:sp>
          <p:nvSpPr>
            <p:cNvPr id="227" name="Freeform 79"/>
            <p:cNvSpPr/>
            <p:nvPr/>
          </p:nvSpPr>
          <p:spPr>
            <a:xfrm rot="12462000">
              <a:off x="5123520" y="4836240"/>
              <a:ext cx="257040" cy="12744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 rot="10918800">
              <a:off x="5031360" y="4808880"/>
              <a:ext cx="372960" cy="118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 rot="6167400">
              <a:off x="4928040" y="4782240"/>
              <a:ext cx="538920" cy="838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 rot="12462000">
              <a:off x="5209920" y="4638240"/>
              <a:ext cx="251640" cy="9648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6"/>
            <p:cNvSpPr/>
            <p:nvPr/>
          </p:nvSpPr>
          <p:spPr>
            <a:xfrm rot="12462000">
              <a:off x="4856040" y="4851000"/>
              <a:ext cx="258480" cy="12744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7"/>
            <p:cNvSpPr/>
            <p:nvPr/>
          </p:nvSpPr>
          <p:spPr>
            <a:xfrm rot="10918800">
              <a:off x="4763160" y="4824360"/>
              <a:ext cx="372960" cy="118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8"/>
            <p:cNvSpPr/>
            <p:nvPr/>
          </p:nvSpPr>
          <p:spPr>
            <a:xfrm rot="6167400">
              <a:off x="4664880" y="4795920"/>
              <a:ext cx="537480" cy="82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9"/>
            <p:cNvSpPr/>
            <p:nvPr/>
          </p:nvSpPr>
          <p:spPr>
            <a:xfrm rot="12462000">
              <a:off x="4944600" y="4649040"/>
              <a:ext cx="250200" cy="10080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96"/>
          <p:cNvSpPr/>
          <p:nvPr/>
        </p:nvSpPr>
        <p:spPr>
          <a:xfrm rot="21333600">
            <a:off x="4952520" y="501120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65"/>
          <p:cNvSpPr/>
          <p:nvPr/>
        </p:nvSpPr>
        <p:spPr>
          <a:xfrm rot="12462000">
            <a:off x="1517400" y="4179600"/>
            <a:ext cx="128520" cy="5724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6"/>
          <p:cNvSpPr/>
          <p:nvPr/>
        </p:nvSpPr>
        <p:spPr>
          <a:xfrm rot="10919400">
            <a:off x="1067760" y="4363920"/>
            <a:ext cx="183960" cy="525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67"/>
          <p:cNvSpPr/>
          <p:nvPr/>
        </p:nvSpPr>
        <p:spPr>
          <a:xfrm rot="6168000">
            <a:off x="307440" y="5495760"/>
            <a:ext cx="241200" cy="414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68"/>
          <p:cNvSpPr/>
          <p:nvPr/>
        </p:nvSpPr>
        <p:spPr>
          <a:xfrm rot="12462000">
            <a:off x="1298520" y="4090320"/>
            <a:ext cx="123840" cy="4284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69"/>
          <p:cNvSpPr/>
          <p:nvPr/>
        </p:nvSpPr>
        <p:spPr>
          <a:xfrm rot="12462000">
            <a:off x="1225080" y="4177800"/>
            <a:ext cx="128520" cy="5724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70"/>
          <p:cNvSpPr/>
          <p:nvPr/>
        </p:nvSpPr>
        <p:spPr>
          <a:xfrm rot="10919400">
            <a:off x="1345680" y="4164120"/>
            <a:ext cx="184320" cy="540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71"/>
          <p:cNvSpPr/>
          <p:nvPr/>
        </p:nvSpPr>
        <p:spPr>
          <a:xfrm rot="6168000">
            <a:off x="1310400" y="4147200"/>
            <a:ext cx="237960" cy="39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72"/>
          <p:cNvSpPr/>
          <p:nvPr/>
        </p:nvSpPr>
        <p:spPr>
          <a:xfrm rot="12462000">
            <a:off x="1260360" y="4086000"/>
            <a:ext cx="123840" cy="4428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75"/>
          <p:cNvSpPr/>
          <p:nvPr/>
        </p:nvSpPr>
        <p:spPr>
          <a:xfrm rot="12462000">
            <a:off x="5682960" y="431100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6"/>
          <p:cNvSpPr/>
          <p:nvPr/>
        </p:nvSpPr>
        <p:spPr>
          <a:xfrm rot="10919400">
            <a:off x="5630400" y="4296600"/>
            <a:ext cx="217440" cy="74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77"/>
          <p:cNvSpPr/>
          <p:nvPr/>
        </p:nvSpPr>
        <p:spPr>
          <a:xfrm rot="6168000">
            <a:off x="5555520" y="4276440"/>
            <a:ext cx="34452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78"/>
          <p:cNvSpPr/>
          <p:nvPr/>
        </p:nvSpPr>
        <p:spPr>
          <a:xfrm rot="12462000">
            <a:off x="5734080" y="4184640"/>
            <a:ext cx="14616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79"/>
          <p:cNvSpPr/>
          <p:nvPr/>
        </p:nvSpPr>
        <p:spPr>
          <a:xfrm rot="12462000">
            <a:off x="5528880" y="432216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0"/>
          <p:cNvSpPr/>
          <p:nvPr/>
        </p:nvSpPr>
        <p:spPr>
          <a:xfrm rot="10919400">
            <a:off x="5476320" y="4304880"/>
            <a:ext cx="214200" cy="76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1"/>
          <p:cNvSpPr/>
          <p:nvPr/>
        </p:nvSpPr>
        <p:spPr>
          <a:xfrm rot="6168000">
            <a:off x="5405040" y="4287600"/>
            <a:ext cx="34128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82"/>
          <p:cNvSpPr/>
          <p:nvPr/>
        </p:nvSpPr>
        <p:spPr>
          <a:xfrm rot="12462000">
            <a:off x="5581440" y="4193640"/>
            <a:ext cx="14580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84"/>
          <p:cNvSpPr/>
          <p:nvPr/>
        </p:nvSpPr>
        <p:spPr>
          <a:xfrm rot="13864200">
            <a:off x="3688200" y="4340520"/>
            <a:ext cx="135000" cy="6372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85"/>
          <p:cNvSpPr/>
          <p:nvPr/>
        </p:nvSpPr>
        <p:spPr>
          <a:xfrm rot="12321000">
            <a:off x="3656160" y="4316040"/>
            <a:ext cx="179280" cy="66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86"/>
          <p:cNvSpPr/>
          <p:nvPr/>
        </p:nvSpPr>
        <p:spPr>
          <a:xfrm rot="7569600">
            <a:off x="3601080" y="4304880"/>
            <a:ext cx="295560" cy="414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87"/>
          <p:cNvSpPr/>
          <p:nvPr/>
        </p:nvSpPr>
        <p:spPr>
          <a:xfrm rot="13864200">
            <a:off x="3771000" y="4256640"/>
            <a:ext cx="133200" cy="493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8"/>
          <p:cNvSpPr/>
          <p:nvPr/>
        </p:nvSpPr>
        <p:spPr>
          <a:xfrm rot="13864200">
            <a:off x="3565800" y="4294800"/>
            <a:ext cx="136800" cy="648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9"/>
          <p:cNvSpPr/>
          <p:nvPr/>
        </p:nvSpPr>
        <p:spPr>
          <a:xfrm rot="12321000">
            <a:off x="3537000" y="4269600"/>
            <a:ext cx="177840" cy="651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0"/>
          <p:cNvSpPr/>
          <p:nvPr/>
        </p:nvSpPr>
        <p:spPr>
          <a:xfrm rot="7569600">
            <a:off x="3480120" y="4256280"/>
            <a:ext cx="295200" cy="399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1"/>
          <p:cNvSpPr/>
          <p:nvPr/>
        </p:nvSpPr>
        <p:spPr>
          <a:xfrm rot="13864200">
            <a:off x="3649320" y="4211280"/>
            <a:ext cx="131760" cy="4896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93"/>
          <p:cNvSpPr/>
          <p:nvPr/>
        </p:nvSpPr>
        <p:spPr>
          <a:xfrm rot="12462000">
            <a:off x="4854600" y="3404520"/>
            <a:ext cx="1490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94"/>
          <p:cNvSpPr/>
          <p:nvPr/>
        </p:nvSpPr>
        <p:spPr>
          <a:xfrm rot="10919400">
            <a:off x="4800240" y="3390120"/>
            <a:ext cx="217440" cy="74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95"/>
          <p:cNvSpPr/>
          <p:nvPr/>
        </p:nvSpPr>
        <p:spPr>
          <a:xfrm rot="6168000">
            <a:off x="4725360" y="3369960"/>
            <a:ext cx="34452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6"/>
          <p:cNvSpPr/>
          <p:nvPr/>
        </p:nvSpPr>
        <p:spPr>
          <a:xfrm rot="12462000">
            <a:off x="4903560" y="3277800"/>
            <a:ext cx="145800" cy="6048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97"/>
          <p:cNvSpPr/>
          <p:nvPr/>
        </p:nvSpPr>
        <p:spPr>
          <a:xfrm rot="12462000">
            <a:off x="4698720" y="341568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98"/>
          <p:cNvSpPr/>
          <p:nvPr/>
        </p:nvSpPr>
        <p:spPr>
          <a:xfrm rot="10919400">
            <a:off x="4646160" y="3398400"/>
            <a:ext cx="216000" cy="76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9"/>
          <p:cNvSpPr/>
          <p:nvPr/>
        </p:nvSpPr>
        <p:spPr>
          <a:xfrm rot="6168000">
            <a:off x="4575600" y="3381840"/>
            <a:ext cx="341280" cy="47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0"/>
          <p:cNvSpPr/>
          <p:nvPr/>
        </p:nvSpPr>
        <p:spPr>
          <a:xfrm rot="12462000">
            <a:off x="4751280" y="3287880"/>
            <a:ext cx="14616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54"/>
          <p:cNvSpPr/>
          <p:nvPr/>
        </p:nvSpPr>
        <p:spPr>
          <a:xfrm rot="6168000">
            <a:off x="1741320" y="3188880"/>
            <a:ext cx="488880" cy="8568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59"/>
          <p:cNvSpPr/>
          <p:nvPr/>
        </p:nvSpPr>
        <p:spPr>
          <a:xfrm rot="2200200">
            <a:off x="4188960" y="4440240"/>
            <a:ext cx="446040" cy="93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60"/>
          <p:cNvSpPr/>
          <p:nvPr/>
        </p:nvSpPr>
        <p:spPr>
          <a:xfrm rot="2200200">
            <a:off x="5936760" y="5621400"/>
            <a:ext cx="446040" cy="93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 162"/>
          <p:cNvSpPr/>
          <p:nvPr/>
        </p:nvSpPr>
        <p:spPr>
          <a:xfrm>
            <a:off x="6934320" y="1676520"/>
            <a:ext cx="1904760" cy="838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ning Short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 163"/>
          <p:cNvSpPr/>
          <p:nvPr/>
        </p:nvSpPr>
        <p:spPr>
          <a:xfrm>
            <a:off x="6019920" y="914400"/>
            <a:ext cx="1904760" cy="838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5"/>
          <p:cNvSpPr/>
          <p:nvPr/>
        </p:nvSpPr>
        <p:spPr>
          <a:xfrm rot="21213000">
            <a:off x="3535200" y="4782600"/>
            <a:ext cx="106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T / MA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hor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3"/>
          <p:cNvSpPr/>
          <p:nvPr/>
        </p:nvSpPr>
        <p:spPr>
          <a:xfrm>
            <a:off x="8245440" y="6095880"/>
            <a:ext cx="8985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CTP: 30 of 143 KD MAJ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4"/>
          <p:cNvSpPr/>
          <p:nvPr/>
        </p:nvSpPr>
        <p:spPr>
          <a:xfrm rot="724200">
            <a:off x="4215960" y="5913360"/>
            <a:ext cx="1206720" cy="3668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50+ Doctrine &amp; TTP Product work years Beh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3"/>
          <p:cNvSpPr/>
          <p:nvPr/>
        </p:nvSpPr>
        <p:spPr>
          <a:xfrm rot="21232200">
            <a:off x="6873840" y="3725640"/>
            <a:ext cx="1295280" cy="3664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00+ Training DEV Product work years beh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2"/>
          <p:cNvSpPr/>
          <p:nvPr/>
        </p:nvSpPr>
        <p:spPr>
          <a:xfrm rot="20345400">
            <a:off x="8197560" y="4652640"/>
            <a:ext cx="81432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C Delay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6"/>
          <p:cNvSpPr/>
          <p:nvPr/>
        </p:nvSpPr>
        <p:spPr>
          <a:xfrm rot="1039200">
            <a:off x="6660720" y="6265440"/>
            <a:ext cx="9716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0 Officers on WIAS Long-Term Task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17"/>
          <p:cNvSpPr/>
          <p:nvPr/>
        </p:nvSpPr>
        <p:spPr>
          <a:xfrm rot="321000">
            <a:off x="6339960" y="5149800"/>
            <a:ext cx="9716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FID MAJs: 38%; CPTs 3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18"/>
          <p:cNvSpPr/>
          <p:nvPr/>
        </p:nvSpPr>
        <p:spPr>
          <a:xfrm rot="321000">
            <a:off x="7407000" y="4303800"/>
            <a:ext cx="81432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3 Instructor Pilots 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19"/>
          <p:cNvSpPr/>
          <p:nvPr/>
        </p:nvSpPr>
        <p:spPr>
          <a:xfrm rot="321000">
            <a:off x="6795720" y="4711320"/>
            <a:ext cx="13748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8% of INTEL Resident Courses taught by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0"/>
          <p:cNvSpPr/>
          <p:nvPr/>
        </p:nvSpPr>
        <p:spPr>
          <a:xfrm rot="321000">
            <a:off x="7410240" y="5182920"/>
            <a:ext cx="13730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 / 181 Multifunctional Logistician CPT &amp; MAJ assigned to CAS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1"/>
          <p:cNvSpPr/>
          <p:nvPr/>
        </p:nvSpPr>
        <p:spPr>
          <a:xfrm rot="321000">
            <a:off x="3597120" y="6224760"/>
            <a:ext cx="1138320" cy="3790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200 MIL of OCO on Contract Ins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5"/>
          <p:cNvSpPr/>
          <p:nvPr/>
        </p:nvSpPr>
        <p:spPr>
          <a:xfrm rot="669600">
            <a:off x="7875360" y="6437160"/>
            <a:ext cx="97452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Functional Courses Elimin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3"/>
          <p:cNvSpPr/>
          <p:nvPr/>
        </p:nvSpPr>
        <p:spPr>
          <a:xfrm>
            <a:off x="2743200" y="647712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7% Officer Combat D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4"/>
          <p:cNvSpPr/>
          <p:nvPr/>
        </p:nvSpPr>
        <p:spPr>
          <a:xfrm rot="1576200">
            <a:off x="7965720" y="3606840"/>
            <a:ext cx="1152360" cy="34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% CPT &amp; MAJ TNG Develop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5"/>
          <p:cNvSpPr/>
          <p:nvPr/>
        </p:nvSpPr>
        <p:spPr>
          <a:xfrm rot="19423200">
            <a:off x="5850000" y="3776400"/>
            <a:ext cx="1295280" cy="3664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, TRADOC at 39% Military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6"/>
          <p:cNvSpPr/>
          <p:nvPr/>
        </p:nvSpPr>
        <p:spPr>
          <a:xfrm rot="20484000">
            <a:off x="1941120" y="634176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COES Back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7"/>
          <p:cNvSpPr/>
          <p:nvPr/>
        </p:nvSpPr>
        <p:spPr>
          <a:xfrm>
            <a:off x="2743200" y="594360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  PME Back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8"/>
          <p:cNvSpPr/>
          <p:nvPr/>
        </p:nvSpPr>
        <p:spPr>
          <a:xfrm rot="1273800">
            <a:off x="3390480" y="571320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WC mix and ti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9"/>
          <p:cNvSpPr/>
          <p:nvPr/>
        </p:nvSpPr>
        <p:spPr>
          <a:xfrm rot="21121800">
            <a:off x="1143000" y="6095880"/>
            <a:ext cx="1135080" cy="3812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 LTs commanding BCT Compan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1"/>
          <p:cNvSpPr/>
          <p:nvPr/>
        </p:nvSpPr>
        <p:spPr>
          <a:xfrm>
            <a:off x="7391520" y="3124080"/>
            <a:ext cx="906480" cy="3812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-resourced TR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1"/>
          <p:cNvSpPr/>
          <p:nvPr/>
        </p:nvSpPr>
        <p:spPr>
          <a:xfrm>
            <a:off x="2819520" y="23623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2"/>
          <p:cNvSpPr/>
          <p:nvPr/>
        </p:nvSpPr>
        <p:spPr>
          <a:xfrm>
            <a:off x="2895480" y="22860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3"/>
          <p:cNvSpPr/>
          <p:nvPr/>
        </p:nvSpPr>
        <p:spPr>
          <a:xfrm>
            <a:off x="2743200" y="26668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9"/>
          <p:cNvSpPr/>
          <p:nvPr/>
        </p:nvSpPr>
        <p:spPr>
          <a:xfrm>
            <a:off x="320040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0"/>
          <p:cNvSpPr/>
          <p:nvPr/>
        </p:nvSpPr>
        <p:spPr>
          <a:xfrm>
            <a:off x="4419720" y="28195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11"/>
          <p:cNvSpPr/>
          <p:nvPr/>
        </p:nvSpPr>
        <p:spPr>
          <a:xfrm>
            <a:off x="434340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22"/>
          <p:cNvSpPr/>
          <p:nvPr/>
        </p:nvSpPr>
        <p:spPr>
          <a:xfrm>
            <a:off x="1371600" y="4267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3"/>
          <p:cNvSpPr/>
          <p:nvPr/>
        </p:nvSpPr>
        <p:spPr>
          <a:xfrm>
            <a:off x="1447920" y="43434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4"/>
          <p:cNvSpPr/>
          <p:nvPr/>
        </p:nvSpPr>
        <p:spPr>
          <a:xfrm>
            <a:off x="281952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5"/>
          <p:cNvSpPr/>
          <p:nvPr/>
        </p:nvSpPr>
        <p:spPr>
          <a:xfrm>
            <a:off x="3429000" y="36576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6"/>
          <p:cNvSpPr/>
          <p:nvPr/>
        </p:nvSpPr>
        <p:spPr>
          <a:xfrm>
            <a:off x="3581280" y="37339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7"/>
          <p:cNvSpPr/>
          <p:nvPr/>
        </p:nvSpPr>
        <p:spPr>
          <a:xfrm>
            <a:off x="3352680" y="46483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8"/>
          <p:cNvSpPr/>
          <p:nvPr/>
        </p:nvSpPr>
        <p:spPr>
          <a:xfrm>
            <a:off x="4191120" y="5257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9"/>
          <p:cNvSpPr/>
          <p:nvPr/>
        </p:nvSpPr>
        <p:spPr>
          <a:xfrm>
            <a:off x="19051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0"/>
          <p:cNvSpPr/>
          <p:nvPr/>
        </p:nvSpPr>
        <p:spPr>
          <a:xfrm>
            <a:off x="419112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31"/>
          <p:cNvSpPr/>
          <p:nvPr/>
        </p:nvSpPr>
        <p:spPr>
          <a:xfrm>
            <a:off x="205740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32"/>
          <p:cNvSpPr/>
          <p:nvPr/>
        </p:nvSpPr>
        <p:spPr>
          <a:xfrm>
            <a:off x="4267080" y="53341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3"/>
          <p:cNvSpPr/>
          <p:nvPr/>
        </p:nvSpPr>
        <p:spPr>
          <a:xfrm>
            <a:off x="3733920" y="22860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4"/>
          <p:cNvSpPr/>
          <p:nvPr/>
        </p:nvSpPr>
        <p:spPr>
          <a:xfrm>
            <a:off x="32767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35"/>
          <p:cNvSpPr/>
          <p:nvPr/>
        </p:nvSpPr>
        <p:spPr>
          <a:xfrm>
            <a:off x="3429000" y="48769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6"/>
          <p:cNvSpPr/>
          <p:nvPr/>
        </p:nvSpPr>
        <p:spPr>
          <a:xfrm>
            <a:off x="3276720" y="48769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7"/>
          <p:cNvSpPr/>
          <p:nvPr/>
        </p:nvSpPr>
        <p:spPr>
          <a:xfrm>
            <a:off x="68580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8"/>
          <p:cNvSpPr/>
          <p:nvPr/>
        </p:nvSpPr>
        <p:spPr>
          <a:xfrm>
            <a:off x="4114800" y="34290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9"/>
          <p:cNvSpPr/>
          <p:nvPr/>
        </p:nvSpPr>
        <p:spPr>
          <a:xfrm>
            <a:off x="4876920" y="5257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40"/>
          <p:cNvSpPr/>
          <p:nvPr/>
        </p:nvSpPr>
        <p:spPr>
          <a:xfrm>
            <a:off x="1371600" y="46483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41"/>
          <p:cNvSpPr/>
          <p:nvPr/>
        </p:nvSpPr>
        <p:spPr>
          <a:xfrm>
            <a:off x="12193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42"/>
          <p:cNvSpPr/>
          <p:nvPr/>
        </p:nvSpPr>
        <p:spPr>
          <a:xfrm>
            <a:off x="609480" y="54864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3"/>
          <p:cNvSpPr/>
          <p:nvPr/>
        </p:nvSpPr>
        <p:spPr>
          <a:xfrm>
            <a:off x="53352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4"/>
          <p:cNvSpPr/>
          <p:nvPr/>
        </p:nvSpPr>
        <p:spPr>
          <a:xfrm>
            <a:off x="419112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45"/>
          <p:cNvSpPr/>
          <p:nvPr/>
        </p:nvSpPr>
        <p:spPr>
          <a:xfrm>
            <a:off x="1523880" y="48006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6"/>
          <p:cNvSpPr/>
          <p:nvPr/>
        </p:nvSpPr>
        <p:spPr>
          <a:xfrm>
            <a:off x="25909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7"/>
          <p:cNvSpPr/>
          <p:nvPr/>
        </p:nvSpPr>
        <p:spPr>
          <a:xfrm>
            <a:off x="4800600" y="3886200"/>
            <a:ext cx="763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8"/>
          <p:cNvSpPr/>
          <p:nvPr/>
        </p:nvSpPr>
        <p:spPr>
          <a:xfrm>
            <a:off x="5257800" y="40384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49"/>
          <p:cNvSpPr/>
          <p:nvPr/>
        </p:nvSpPr>
        <p:spPr>
          <a:xfrm>
            <a:off x="5334120" y="4114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650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OC Core Competency and Function Assessment</a:t>
            </a:r>
            <a:br>
              <a:rPr sz="2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SO Assessm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1249200" y="6178680"/>
            <a:ext cx="6640560" cy="27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Denotes functions performed in collaboration with other HCE 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3"/>
          <p:cNvGrpSpPr/>
          <p:nvPr/>
        </p:nvGrpSpPr>
        <p:grpSpPr>
          <a:xfrm>
            <a:off x="457200" y="1143000"/>
            <a:ext cx="8229600" cy="4954680"/>
            <a:chOff x="457200" y="1143000"/>
            <a:chExt cx="8229600" cy="4954680"/>
          </a:xfrm>
        </p:grpSpPr>
        <p:sp>
          <p:nvSpPr>
            <p:cNvPr id="330" name="Rectangle 29"/>
            <p:cNvSpPr/>
            <p:nvPr/>
          </p:nvSpPr>
          <p:spPr>
            <a:xfrm>
              <a:off x="457200" y="1143000"/>
              <a:ext cx="8229600" cy="4953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30"/>
            <p:cNvSpPr/>
            <p:nvPr/>
          </p:nvSpPr>
          <p:spPr>
            <a:xfrm>
              <a:off x="4570560" y="1144440"/>
              <a:ext cx="2880" cy="495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31"/>
            <p:cNvSpPr/>
            <p:nvPr/>
          </p:nvSpPr>
          <p:spPr>
            <a:xfrm flipV="1">
              <a:off x="457200" y="361944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11"/>
            <p:cNvSpPr/>
            <p:nvPr/>
          </p:nvSpPr>
          <p:spPr>
            <a:xfrm>
              <a:off x="457200" y="114300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Manage and Execute the Human Resources Lifecy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2"/>
            <p:cNvSpPr/>
            <p:nvPr/>
          </p:nvSpPr>
          <p:spPr>
            <a:xfrm>
              <a:off x="4572000" y="114300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Execute Initial Individual Military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14"/>
            <p:cNvSpPr/>
            <p:nvPr/>
          </p:nvSpPr>
          <p:spPr>
            <a:xfrm>
              <a:off x="4572000" y="360108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Develop and Integrate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16"/>
            <p:cNvSpPr/>
            <p:nvPr/>
          </p:nvSpPr>
          <p:spPr>
            <a:xfrm>
              <a:off x="457200" y="1371600"/>
              <a:ext cx="403848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cquir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Distribute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HRC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Sustain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Transition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Structure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3 FDD and ARC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Develop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Army and Co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7"/>
            <p:cNvSpPr/>
            <p:nvPr/>
          </p:nvSpPr>
          <p:spPr>
            <a:xfrm>
              <a:off x="4572000" y="1371600"/>
              <a:ext cx="41148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T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lthough Drill Sergeant and AIT PSG fills are green, IMT degraded by ADOS funding, contractor funding, BOLC-B Captain fill and IMT (BDE and BN) staff fill.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2"/>
            <p:cNvSpPr/>
            <p:nvPr/>
          </p:nvSpPr>
          <p:spPr>
            <a:xfrm>
              <a:off x="4572000" y="3962520"/>
              <a:ext cx="411480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cepts Development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ack of personnel with operational credentials and futures assessment skills hinders quality and content of CD Products within required two year cycles.</a:t>
              </a:r>
              <a:br>
                <a:rPr sz="12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equirements Determin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:             Establishing CDIDs at CoE has mitigated some risk by consolidating personnel.  However, shortages in qualified RD personal still place RD at risk.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apability Integration: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graded by lack of personnel with appropriate knowledge and experience required to integrate capabilities across warfighting functions and organizations.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ounded Rectangle 16"/>
          <p:cNvSpPr/>
          <p:nvPr/>
        </p:nvSpPr>
        <p:spPr>
          <a:xfrm>
            <a:off x="1447920" y="144792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24"/>
          <p:cNvSpPr/>
          <p:nvPr/>
        </p:nvSpPr>
        <p:spPr>
          <a:xfrm>
            <a:off x="6553080" y="47242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26"/>
          <p:cNvSpPr/>
          <p:nvPr/>
        </p:nvSpPr>
        <p:spPr>
          <a:xfrm>
            <a:off x="6248520" y="40384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27"/>
          <p:cNvSpPr/>
          <p:nvPr/>
        </p:nvSpPr>
        <p:spPr>
          <a:xfrm>
            <a:off x="6095880" y="54100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28"/>
          <p:cNvSpPr/>
          <p:nvPr/>
        </p:nvSpPr>
        <p:spPr>
          <a:xfrm>
            <a:off x="5029200" y="16002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457200" y="35971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pare the Army to Dominate FSO in a JIIM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457200" y="3800520"/>
            <a:ext cx="41148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 Developmen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errelated functio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“De-greening” of role models (&lt;30% ILE Instructors are Mil); lack of personnel re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s Learned: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Shortage of military manning (31% fill) reduces our ability to field collection teams and support CTC/MTC trai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trin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sufficient resources assigned to doctrine development positions throughout TRADOC – filled 49% of authoriz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Developmen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acted by lack of resources, split responsibilities with TRA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Suppor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TE &amp;LVC-IA on track; dL getting fixed; Sims/simulations doing well; CTC undermanned but getting job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Training: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DOC good @ turning courses needed for the f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34"/>
          <p:cNvSpPr/>
          <p:nvPr/>
        </p:nvSpPr>
        <p:spPr>
          <a:xfrm>
            <a:off x="1905120" y="38862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35"/>
          <p:cNvSpPr/>
          <p:nvPr/>
        </p:nvSpPr>
        <p:spPr>
          <a:xfrm>
            <a:off x="1676520" y="42670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36"/>
          <p:cNvSpPr/>
          <p:nvPr/>
        </p:nvSpPr>
        <p:spPr>
          <a:xfrm>
            <a:off x="1676520" y="54100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37"/>
          <p:cNvSpPr/>
          <p:nvPr/>
        </p:nvSpPr>
        <p:spPr>
          <a:xfrm>
            <a:off x="1981080" y="49528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38"/>
          <p:cNvSpPr/>
          <p:nvPr/>
        </p:nvSpPr>
        <p:spPr>
          <a:xfrm>
            <a:off x="1828800" y="579132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39"/>
          <p:cNvSpPr/>
          <p:nvPr/>
        </p:nvSpPr>
        <p:spPr>
          <a:xfrm>
            <a:off x="1219320" y="464832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48Z</dcterms:created>
  <dc:creator>john.halstead1</dc:creator>
  <dc:description/>
  <dc:language>en-US</dc:language>
  <cp:lastModifiedBy>lwells</cp:lastModifiedBy>
  <dcterms:modified xsi:type="dcterms:W3CDTF">2010-03-03T22:03:49Z</dcterms:modified>
  <cp:revision>107</cp:revision>
  <dc:subject/>
  <dc:title>Slide 1</dc:title>
</cp:coreProperties>
</file>